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4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4.jpeg" ContentType="image/jpeg"/>
  <Override PartName="/ppt/media/image8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lick to move the slide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17515C4-3B81-4E6C-95CB-2D1F460B01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9BEB024-9D1D-40B8-93BC-3AF759D2A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90F604-8E3F-47C5-91D1-CD5241B37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5DA23BB-FC8D-4F96-810A-28F0494F4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6382CB-0542-4EC1-B8E0-A59A3E160D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D5512C2-3A19-4F72-A158-94869079FC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CDD12D-4687-45CF-9E25-EFE0C8062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udience review Reverse RFA brief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0A9645-F4A0-4FC7-91EF-AACE23856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49180E-67BF-4320-B563-F53D722A0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ypes of data: Individual Student outcome data and proces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A9C70A-A076-4CC5-B3B4-A53B787A2B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B99F365-D637-4482-A757-FB5565DE1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prompt: Limit/avoid sidebar convers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9EC032-4C71-4424-8094-B26FE44E0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0A19EC-B8EA-4268-82C6-35E398FC0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CE3A9E-4DB3-4CEE-8F3B-752F1B1F5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picture of dpr used in urbana (notice how it also includes pictures to help differentiate for multiple types of learn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9C6D31-A19F-4E4E-A97B-A8B798FC1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0EBED7-F9F6-481C-92C9-8E03C3BB8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6F63D1-26DE-4C5F-AC74-41DD3FDC1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you’d record your data-based decision rules in G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81FFFE-8856-48A4-96BE-825B1FE2CB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46477F-F2E6-4F97-9A20-DFD51796B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7E055A-7DFD-4A35-80E1-65BC66CD8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55C683-244B-4B50-8B8C-F854934363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019E5C-88D8-4C62-9B66-A5DD5DFB6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6FB6A3-BCCE-4A8F-8865-CA5A0C936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3A0037-3B5D-44A9-9757-7236B3100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FDCE6E4-D215-479C-BED5-F69EC5834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inform teams that when picking group interventions for their school/district that it is important to assess that the chosen intervention has proven successful for their specific school/community population. (ex: socioeconomic, ethnicity, rural/urban, etc…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7432C0-14A5-4326-9967-B05B71FCC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lide can be useful for teams who are going to adapt a curriculum or who are looking for examples of what skills would be taught in an academic skills instructional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C15B33F-1528-427B-B9FD-21344C7FC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examples of lessons that could be taught in a pro-social skills instructional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B2BABD-AE4A-4EE5-84E2-5DA7EAF6C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lessons/topics that might be taught in a problem solving skills instructional skills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E9B7BA-271F-4F82-99AE-CC4F44F40F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5FE621-CBAF-48ED-8B7D-EE4EE69D2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DPR card for a student in a SAIG.  Notice on the DPR card the 3 school wide expectations are listed (in black bold) and the skill set being taught in the SAIG are listed in purple/blue underneath the black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5DF3CB-6146-4156-8302-6FF3A3EDC4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F23ACE-4731-4794-855F-06D7DBFE6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following is taken from How to Build a Successful Mentoring Program using the Elements of Effective Practi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 One-to-One mentoring:  One to one mentoring places one adult in a relationship with one youth.  Group Mentoring involves one adult mentor forming a relationship with a group of up to four young people.  PLEASE note there are people doing this type of mentoring with groups of ten kids and it is working-for example the TEN BOYS CLUB.  The mentor assumes the role of leader and makes a commitment to meet regularly with the group.  Team mentoring involves several adutls working with small groups of young people, with an adult-to-youth ration no greather than one to four;  Peer mentoirng provides opportnity for ac aring youth to develop a guiding, teaching relationship with a younger person;  Ementoring (online mentoirng or telementoring)  connects one adult with one youth-connecting via the internet sometimes meeting in person (this can be great to use over the summer when school is o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7348E1-FF92-4D6B-AB48-AA09A405F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toring can take place in agencies, churches, schools etc.  School is most common form.  Concept of summer bridge….email, letters, phone contact;  school/agency holding summer even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ning in advance that all relationships are one year long to reduce disappointment of mentor not returning for year tw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9C300E-6340-4AFB-869F-748053AC5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to consider a blend of the two.  Without the relationship task focused is less likely to work.  If going to work on a task, it needs to be a joint decision.  High School boys are most likely to feel like task oriented mentoring feels like punish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4651F9-A257-467E-8BCC-EC4F69C4B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most extensive empirical examination of program practice effectiveness as part of the meta anla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E97BE0C-6EB1-4BFE-9B3C-9FEF188B6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ngle feature is responsible for positive outcomes.  The more in place the higher effective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5387C6-7626-4518-93C9-39BC3FEDE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lide Number Placeholder 6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807AF6-A735-4B3D-BBF0-FCE43A221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AE4D51-44E8-41D1-8A0E-40E8083F6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ould put up the triangle while teams report ou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-on-one:  mentoring does not put “delinquent” youth into a group, which provides fertile ground for deviancy training (Dodge, Dishion, Lansford, 2006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guided:  “when mentors tutor, teacher or parent…mentors who engage too quickly in academic activities, especially when not requested by yout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Best Practices:  support provided to volunteers, training of staff, involvement of teachers, school staff and par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5E7E37-93E5-4D14-88BC-F8CB6538E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great site that has links to a Research in Action series  (offers research, pre/post;  start up info;  process info;  tools; et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BD85B5-9CEB-486E-9C76-709C6F15E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n opportunity to provide a disclaimer re: how students access interventions.  For example a student might access mentoring through a BIP (informed by the FBA) rather than the RRF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91710C-7B98-4E71-BFB0-0EFC53AE6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E2CFE2-2E92-47B5-9C06-9CD9A6B9E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400777-8C94-4432-9ED1-85103BD47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poi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engagement at all three tiers (ex. Universal: parent volunteers using school reinforcer; Secondary:  pushing teams to think about more than just consent but helping parents/families understand and be engaged in the intervention; Tertiary: Families need to be active member on the t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population (race, free/reduced lunch, urban/rural, large/small buildings) Regardless of student population the percentage breakdowns remain the same.  Any behavior that is impacting more than 20% of the student body is a universal issu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team/all students, Secondary team/small groups/generic problem solving team/Tertiary team/formed for individual stu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importance of mental health, mental well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18EB-3F52-4AD4-A4AC-3478E47D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820E-C105-46E0-BB0D-3DB374D2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C6AB-2634-4AD4-A6FC-E02C4D7C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4920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459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6AD-1F69-4232-A935-0A3B4A40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287360" y="274320"/>
            <a:ext cx="739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D21C-3EA6-466C-9A9C-F4656B60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920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1459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5358-136D-48B4-ACE3-E8E27B2B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BF91-6560-43DD-BC54-72761F6B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113A-724D-4DA3-9934-155A6DDB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79AF-9203-4F0F-8210-48B0DBCF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3A8C-E9B8-40E8-BAAB-B494AA2A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3AE-D1E2-46A2-A085-DF3E9622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87360" y="274320"/>
            <a:ext cx="739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C267-F6F8-4762-9575-6DA454D2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C821-51E2-4B38-A751-F9C10CFA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CB68-2BA1-4CCE-93C3-1056A398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037A-7EF4-4A80-B30D-8EE3A2EF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32F0-692C-4EE5-885A-EA130A54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488B-B6AC-4DEE-A965-8A6EBC48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4920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4592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80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4920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4592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F12D-4F71-4060-BC7C-A14E5746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37C-157A-407C-910D-31448FA4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047-0581-458C-99AE-0E88CE55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87360" y="274320"/>
            <a:ext cx="739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BC80-6EF2-42C2-B5BB-FB56E1D6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FB70-91B0-4144-A676-4327B17F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6000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402-22A6-48B2-BBB4-8EB3FA1F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6000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88C-416C-4811-AB41-CED6051E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d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6"/>
          <p:cNvSpPr/>
          <p:nvPr/>
        </p:nvSpPr>
        <p:spPr>
          <a:xfrm>
            <a:off x="8831160" y="0"/>
            <a:ext cx="31284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0" y="0"/>
            <a:ext cx="62712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4d3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4d3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377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EC00-B5D7-44F9-8EB1-CE55974731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Oval 13"/>
          <p:cNvSpPr/>
          <p:nvPr/>
        </p:nvSpPr>
        <p:spPr>
          <a:xfrm>
            <a:off x="152280" y="304920"/>
            <a:ext cx="1135080" cy="113508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9"/>
          <p:cNvSpPr/>
          <p:nvPr/>
        </p:nvSpPr>
        <p:spPr>
          <a:xfrm>
            <a:off x="304920" y="447840"/>
            <a:ext cx="847440" cy="84744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2" descr="white star"/>
          <p:cNvPicPr/>
          <p:nvPr/>
        </p:nvPicPr>
        <p:blipFill>
          <a:blip r:embed="rId2"/>
          <a:stretch/>
        </p:blipFill>
        <p:spPr>
          <a:xfrm>
            <a:off x="457200" y="639720"/>
            <a:ext cx="527040" cy="465120"/>
          </a:xfrm>
          <a:prstGeom prst="rect">
            <a:avLst/>
          </a:prstGeom>
          <a:ln w="0">
            <a:noFill/>
          </a:ln>
        </p:spPr>
      </p:pic>
      <p:sp>
        <p:nvSpPr>
          <p:cNvPr id="10" name="Oval 22"/>
          <p:cNvSpPr/>
          <p:nvPr/>
        </p:nvSpPr>
        <p:spPr>
          <a:xfrm>
            <a:off x="8424720" y="6124680"/>
            <a:ext cx="567000" cy="56664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Oval 23"/>
          <p:cNvSpPr/>
          <p:nvPr/>
        </p:nvSpPr>
        <p:spPr>
          <a:xfrm>
            <a:off x="8501040" y="6195960"/>
            <a:ext cx="423720" cy="42408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8831160" y="0"/>
            <a:ext cx="31284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0" y="0"/>
            <a:ext cx="62712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16"/>
          <p:cNvSpPr/>
          <p:nvPr/>
        </p:nvSpPr>
        <p:spPr>
          <a:xfrm>
            <a:off x="152280" y="304920"/>
            <a:ext cx="1135080" cy="113508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Oval 18"/>
          <p:cNvSpPr/>
          <p:nvPr/>
        </p:nvSpPr>
        <p:spPr>
          <a:xfrm>
            <a:off x="304920" y="447840"/>
            <a:ext cx="847440" cy="84744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2" descr="white star"/>
          <p:cNvPicPr/>
          <p:nvPr/>
        </p:nvPicPr>
        <p:blipFill>
          <a:blip r:embed="rId3"/>
          <a:stretch/>
        </p:blipFill>
        <p:spPr>
          <a:xfrm>
            <a:off x="457200" y="639720"/>
            <a:ext cx="527040" cy="465120"/>
          </a:xfrm>
          <a:prstGeom prst="rect">
            <a:avLst/>
          </a:prstGeom>
          <a:ln w="0">
            <a:noFill/>
          </a:ln>
        </p:spPr>
      </p:pic>
      <p:sp>
        <p:nvSpPr>
          <p:cNvPr id="17" name="Oval 21"/>
          <p:cNvSpPr/>
          <p:nvPr/>
        </p:nvSpPr>
        <p:spPr>
          <a:xfrm>
            <a:off x="8424720" y="6124680"/>
            <a:ext cx="567000" cy="56664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Oval 24"/>
          <p:cNvSpPr/>
          <p:nvPr/>
        </p:nvSpPr>
        <p:spPr>
          <a:xfrm>
            <a:off x="8501040" y="6195960"/>
            <a:ext cx="423720" cy="42408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d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6"/>
          <p:cNvSpPr/>
          <p:nvPr/>
        </p:nvSpPr>
        <p:spPr>
          <a:xfrm>
            <a:off x="8831160" y="0"/>
            <a:ext cx="31284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0" y="0"/>
            <a:ext cx="62712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3"/>
          <p:cNvSpPr/>
          <p:nvPr/>
        </p:nvSpPr>
        <p:spPr>
          <a:xfrm>
            <a:off x="152280" y="304920"/>
            <a:ext cx="1135080" cy="113508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9"/>
          <p:cNvSpPr/>
          <p:nvPr/>
        </p:nvSpPr>
        <p:spPr>
          <a:xfrm>
            <a:off x="304920" y="447840"/>
            <a:ext cx="847440" cy="84744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ite star"/>
          <p:cNvPicPr/>
          <p:nvPr/>
        </p:nvPicPr>
        <p:blipFill>
          <a:blip r:embed="rId2"/>
          <a:stretch/>
        </p:blipFill>
        <p:spPr>
          <a:xfrm>
            <a:off x="457200" y="639720"/>
            <a:ext cx="527040" cy="465120"/>
          </a:xfrm>
          <a:prstGeom prst="rect">
            <a:avLst/>
          </a:prstGeom>
          <a:ln w="0">
            <a:noFill/>
          </a:ln>
        </p:spPr>
      </p:pic>
      <p:sp>
        <p:nvSpPr>
          <p:cNvPr id="60" name="Oval 22"/>
          <p:cNvSpPr/>
          <p:nvPr/>
        </p:nvSpPr>
        <p:spPr>
          <a:xfrm>
            <a:off x="8424720" y="6124680"/>
            <a:ext cx="567000" cy="56664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3"/>
          <p:cNvSpPr/>
          <p:nvPr/>
        </p:nvSpPr>
        <p:spPr>
          <a:xfrm>
            <a:off x="8501040" y="6195960"/>
            <a:ext cx="423720" cy="42408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8831160" y="0"/>
            <a:ext cx="31284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0" y="0"/>
            <a:ext cx="627120" cy="6858000"/>
          </a:xfrm>
          <a:prstGeom prst="rect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/>
          <p:cNvSpPr/>
          <p:nvPr/>
        </p:nvSpPr>
        <p:spPr>
          <a:xfrm>
            <a:off x="152280" y="304920"/>
            <a:ext cx="1135080" cy="113508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8"/>
          <p:cNvSpPr/>
          <p:nvPr/>
        </p:nvSpPr>
        <p:spPr>
          <a:xfrm>
            <a:off x="304920" y="447840"/>
            <a:ext cx="847440" cy="84744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white star"/>
          <p:cNvPicPr/>
          <p:nvPr/>
        </p:nvPicPr>
        <p:blipFill>
          <a:blip r:embed="rId3"/>
          <a:stretch/>
        </p:blipFill>
        <p:spPr>
          <a:xfrm>
            <a:off x="457200" y="639720"/>
            <a:ext cx="527040" cy="465120"/>
          </a:xfrm>
          <a:prstGeom prst="rect">
            <a:avLst/>
          </a:prstGeom>
          <a:ln w="0">
            <a:noFill/>
          </a:ln>
        </p:spPr>
      </p:pic>
      <p:sp>
        <p:nvSpPr>
          <p:cNvPr id="67" name="Oval 21"/>
          <p:cNvSpPr/>
          <p:nvPr/>
        </p:nvSpPr>
        <p:spPr>
          <a:xfrm>
            <a:off x="8424720" y="6124680"/>
            <a:ext cx="567000" cy="566640"/>
          </a:xfrm>
          <a:prstGeom prst="ellipse">
            <a:avLst/>
          </a:prstGeom>
          <a:solidFill>
            <a:srgbClr val="fbe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8501040" y="6195960"/>
            <a:ext cx="423720" cy="424080"/>
          </a:xfrm>
          <a:prstGeom prst="ellipse">
            <a:avLst/>
          </a:prstGeom>
          <a:solidFill>
            <a:srgbClr val="f4d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4d3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4d3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d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4d38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4d38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8377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75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BC62-D396-4FDC-9214-2604DCA8E9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mentoring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pbisillinois.org/" TargetMode="External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Local%20Settings/Temporary%20Internet%20Files/Content.IE5/Local%20Settings/Temporary%20Internet%20Files/robh/My%20Documents/ROBS%20DATA/Research%20Centers/07-08%20SWIS,%20SET,%20PBS%20Summaris/SWIS%20summary%2007-08%20(Majors%20Only).pptx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54a5"/>
                </a:solidFill>
                <a:latin typeface="Cambria"/>
              </a:rPr>
              <a:t>      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3a54a5"/>
                </a:solidFill>
                <a:latin typeface="Cambria"/>
              </a:rPr>
              <a:t>S200i:  Formalizing Tier 2/ Secondary Systems, Data, </a:t>
            </a:r>
            <a:br>
              <a:rPr sz="5400"/>
            </a:br>
            <a:r>
              <a:rPr b="0" lang="en-US" sz="5400" spc="-1" strike="noStrike">
                <a:solidFill>
                  <a:srgbClr val="3a54a5"/>
                </a:solidFill>
                <a:latin typeface="Cambria"/>
              </a:rPr>
              <a:t>&amp; Practices</a:t>
            </a: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609120"/>
            <a:ext cx="73915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a54a5"/>
                </a:solidFill>
                <a:latin typeface="Calibri"/>
                <a:ea typeface="Calibri"/>
              </a:rPr>
              <a:t>Tier 2/Secondary Series 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838080" y="6324480"/>
            <a:ext cx="7620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54a5"/>
                </a:solidFill>
                <a:latin typeface="Candara"/>
              </a:rPr>
              <a:t>Version 3.0, Rev. 11.2.2011                                                                        </a:t>
            </a:r>
            <a:r>
              <a:rPr b="1" lang="en-US" sz="1000" spc="-1" strike="noStrike">
                <a:solidFill>
                  <a:srgbClr val="3a54a5"/>
                </a:solidFill>
                <a:latin typeface="Wingdings"/>
                <a:ea typeface="Wingdings"/>
              </a:rPr>
              <a:t></a:t>
            </a:r>
            <a:r>
              <a:rPr b="1" lang="en-US" sz="1000" spc="-1" strike="noStrike">
                <a:solidFill>
                  <a:srgbClr val="3a54a5"/>
                </a:solidFill>
                <a:latin typeface="Candara"/>
              </a:rPr>
              <a:t>  </a:t>
            </a:r>
            <a:r>
              <a:rPr b="0" i="1" lang="en-US" sz="1000" spc="-1" strike="noStrike">
                <a:solidFill>
                  <a:srgbClr val="3a54a5"/>
                </a:solidFill>
                <a:latin typeface="Candara"/>
              </a:rPr>
              <a:t>This is a presentation of the Illinois PBIS Network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5800" y="152280"/>
            <a:ext cx="8001000" cy="116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3-Tiered System of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ecessary Conversations (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2895480" y="3200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2362320" y="4114800"/>
            <a:ext cx="990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2362320" y="4648320"/>
            <a:ext cx="9903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A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2362320" y="5181480"/>
            <a:ext cx="990360" cy="68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roup w.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6400800" y="4648320"/>
            <a:ext cx="1219320" cy="7138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FBA/B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1"/>
          <p:cNvSpPr/>
          <p:nvPr/>
        </p:nvSpPr>
        <p:spPr>
          <a:xfrm>
            <a:off x="838080" y="3200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2"/>
          <p:cNvSpPr/>
          <p:nvPr/>
        </p:nvSpPr>
        <p:spPr>
          <a:xfrm>
            <a:off x="441360" y="10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8"/>
          <p:cNvSpPr/>
          <p:nvPr/>
        </p:nvSpPr>
        <p:spPr>
          <a:xfrm>
            <a:off x="4267080" y="1523880"/>
            <a:ext cx="1905120" cy="6426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blem Solving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9"/>
          <p:cNvSpPr/>
          <p:nvPr/>
        </p:nvSpPr>
        <p:spPr>
          <a:xfrm>
            <a:off x="6934320" y="1523880"/>
            <a:ext cx="1752480" cy="64260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ertiary System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2"/>
          <p:cNvSpPr/>
          <p:nvPr/>
        </p:nvSpPr>
        <p:spPr>
          <a:xfrm>
            <a:off x="4648320" y="4419720"/>
            <a:ext cx="838080" cy="10314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rie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BA/B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8"/>
          <p:cNvSpPr/>
          <p:nvPr/>
        </p:nvSpPr>
        <p:spPr>
          <a:xfrm>
            <a:off x="5105520" y="3276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7"/>
          <p:cNvSpPr/>
          <p:nvPr/>
        </p:nvSpPr>
        <p:spPr>
          <a:xfrm>
            <a:off x="6705720" y="4572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8"/>
          <p:cNvSpPr/>
          <p:nvPr/>
        </p:nvSpPr>
        <p:spPr>
          <a:xfrm>
            <a:off x="7696080" y="3124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2286000" y="6019920"/>
            <a:ext cx="1143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Brief FBA/B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7772400" y="4648320"/>
            <a:ext cx="1219320" cy="7138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PGothic"/>
              </a:rPr>
              <a:t>W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2133720" y="1523880"/>
            <a:ext cx="1676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ondary Systems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63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64"/>
          <p:cNvSpPr/>
          <p:nvPr/>
        </p:nvSpPr>
        <p:spPr>
          <a:xfrm>
            <a:off x="3886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5"/>
          <p:cNvSpPr/>
          <p:nvPr/>
        </p:nvSpPr>
        <p:spPr>
          <a:xfrm>
            <a:off x="6248520" y="1905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67"/>
          <p:cNvSpPr/>
          <p:nvPr/>
        </p:nvSpPr>
        <p:spPr>
          <a:xfrm>
            <a:off x="2133720" y="4343400"/>
            <a:ext cx="228600" cy="685800"/>
          </a:xfrm>
          <a:custGeom>
            <a:avLst/>
            <a:gdLst>
              <a:gd name="textAreaLeft" fmla="*/ 30600 w 228600"/>
              <a:gd name="textAreaRight" fmla="*/ 198000 w 228600"/>
              <a:gd name="textAreaTop" fmla="*/ 118440 h 685800"/>
              <a:gd name="textAreaBottom" fmla="*/ 43920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78" stAng="-5400000" swAng="-5400000"/>
                <a:lnTo>
                  <a:pt x="0" y="10094"/>
                </a:lnTo>
                <a:arcTo wR="21600" hR="7478" stAng="10800000" swAng="-2663894"/>
                <a:lnTo>
                  <a:pt x="14400" y="21172"/>
                </a:lnTo>
                <a:lnTo>
                  <a:pt x="21600" y="16264"/>
                </a:lnTo>
                <a:lnTo>
                  <a:pt x="14400" y="10500"/>
                </a:lnTo>
                <a:lnTo>
                  <a:pt x="14400" y="14528"/>
                </a:lnTo>
                <a:arcTo wR="21600" hR="7478" stAng="8136106" swAng="2452726"/>
                <a:lnTo>
                  <a:pt x="333" y="8786"/>
                </a:lnTo>
                <a:arcTo wR="21600" hR="7478" stAng="-10588832" swAng="5188832"/>
                <a:close/>
              </a:path>
              <a:path fill="darkenLess" w="21600" h="21600">
                <a:moveTo>
                  <a:pt x="21600" y="0"/>
                </a:moveTo>
                <a:arcTo wR="21600" hR="7478" stAng="-5400000" swAng="-5400000"/>
                <a:lnTo>
                  <a:pt x="0" y="7478"/>
                </a:lnTo>
                <a:arcTo wR="21600" hR="7478" stAng="10800000" swAng="-211168"/>
                <a:lnTo>
                  <a:pt x="333" y="8786"/>
                </a:lnTo>
                <a:arcTo wR="21600" hR="7478" stAng="-10588832" swAng="5188832"/>
                <a:close/>
              </a:path>
            </a:pathLst>
          </a:custGeom>
          <a:solidFill>
            <a:srgbClr val="3a54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9"/>
          <p:cNvSpPr/>
          <p:nvPr/>
        </p:nvSpPr>
        <p:spPr>
          <a:xfrm>
            <a:off x="2057400" y="4343400"/>
            <a:ext cx="304920" cy="1219320"/>
          </a:xfrm>
          <a:custGeom>
            <a:avLst/>
            <a:gdLst>
              <a:gd name="textAreaLeft" fmla="*/ 40680 w 304920"/>
              <a:gd name="textAreaRight" fmla="*/ 264240 w 304920"/>
              <a:gd name="textAreaTop" fmla="*/ 234360 h 1219320"/>
              <a:gd name="textAreaBottom" fmla="*/ 81432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09" stAng="-5400000" swAng="-5400000"/>
                <a:lnTo>
                  <a:pt x="0" y="10271"/>
                </a:lnTo>
                <a:arcTo wR="21600" hR="8309" stAng="10800000" swAng="-2844741"/>
                <a:lnTo>
                  <a:pt x="14400" y="21125"/>
                </a:lnTo>
                <a:lnTo>
                  <a:pt x="21600" y="17598"/>
                </a:lnTo>
                <a:lnTo>
                  <a:pt x="14400" y="13121"/>
                </a:lnTo>
                <a:lnTo>
                  <a:pt x="14400" y="16142"/>
                </a:lnTo>
                <a:arcTo wR="21600" hR="8309" stAng="7955259" swAng="2687620"/>
                <a:lnTo>
                  <a:pt x="151" y="9290"/>
                </a:lnTo>
                <a:arcTo wR="21600" hR="8309" stAng="-10642879" swAng="5242879"/>
                <a:close/>
              </a:path>
              <a:path fill="darkenLess" w="21600" h="21600">
                <a:moveTo>
                  <a:pt x="21600" y="0"/>
                </a:moveTo>
                <a:arcTo wR="21600" hR="8309" stAng="-5400000" swAng="-5400000"/>
                <a:lnTo>
                  <a:pt x="0" y="8309"/>
                </a:lnTo>
                <a:arcTo wR="21600" hR="8309" stAng="10800000" swAng="-157121"/>
                <a:lnTo>
                  <a:pt x="151" y="9290"/>
                </a:lnTo>
                <a:arcTo wR="21600" hR="8309" stAng="-10642879" swAng="5242879"/>
                <a:close/>
              </a:path>
            </a:pathLst>
          </a:custGeom>
          <a:solidFill>
            <a:srgbClr val="3a54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7"/>
          <p:cNvSpPr/>
          <p:nvPr/>
        </p:nvSpPr>
        <p:spPr>
          <a:xfrm>
            <a:off x="533520" y="2362320"/>
            <a:ext cx="1066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8"/>
          <p:cNvSpPr/>
          <p:nvPr/>
        </p:nvSpPr>
        <p:spPr>
          <a:xfrm>
            <a:off x="380880" y="236232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s SW &amp; Class-wide sup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9"/>
          <p:cNvSpPr/>
          <p:nvPr/>
        </p:nvSpPr>
        <p:spPr>
          <a:xfrm>
            <a:off x="304920" y="2286000"/>
            <a:ext cx="12952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0"/>
          <p:cNvSpPr/>
          <p:nvPr/>
        </p:nvSpPr>
        <p:spPr>
          <a:xfrm>
            <a:off x="2057400" y="228600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Process data; determines overall intervention effect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1"/>
          <p:cNvSpPr/>
          <p:nvPr/>
        </p:nvSpPr>
        <p:spPr>
          <a:xfrm>
            <a:off x="4267080" y="236232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ing team; uses FBA/BIP process for one youth at a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2"/>
          <p:cNvSpPr/>
          <p:nvPr/>
        </p:nvSpPr>
        <p:spPr>
          <a:xfrm>
            <a:off x="6934320" y="220968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Process data; determines overall intervention effect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3"/>
          <p:cNvSpPr/>
          <p:nvPr/>
        </p:nvSpPr>
        <p:spPr>
          <a:xfrm>
            <a:off x="2057400" y="2209680"/>
            <a:ext cx="1676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4"/>
          <p:cNvSpPr/>
          <p:nvPr/>
        </p:nvSpPr>
        <p:spPr>
          <a:xfrm>
            <a:off x="4191120" y="2362320"/>
            <a:ext cx="2057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5"/>
          <p:cNvSpPr/>
          <p:nvPr/>
        </p:nvSpPr>
        <p:spPr>
          <a:xfrm>
            <a:off x="6934320" y="2209680"/>
            <a:ext cx="17524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iped Right Arrow 44"/>
          <p:cNvSpPr/>
          <p:nvPr/>
        </p:nvSpPr>
        <p:spPr>
          <a:xfrm>
            <a:off x="1600200" y="4191120"/>
            <a:ext cx="533520" cy="228600"/>
          </a:xfrm>
          <a:custGeom>
            <a:avLst/>
            <a:gdLst>
              <a:gd name="textAreaLeft" fmla="*/ 35640 w 533520"/>
              <a:gd name="textAreaRight" fmla="*/ 47664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533400" h="228600">
                <a:moveTo>
                  <a:pt x="0" y="57150"/>
                </a:moveTo>
                <a:lnTo>
                  <a:pt x="7144" y="57150"/>
                </a:lnTo>
                <a:lnTo>
                  <a:pt x="7144" y="171450"/>
                </a:lnTo>
                <a:lnTo>
                  <a:pt x="0" y="171450"/>
                </a:lnTo>
                <a:close/>
                <a:moveTo>
                  <a:pt x="14288" y="57150"/>
                </a:moveTo>
                <a:lnTo>
                  <a:pt x="28575" y="57150"/>
                </a:lnTo>
                <a:lnTo>
                  <a:pt x="28575" y="171450"/>
                </a:lnTo>
                <a:lnTo>
                  <a:pt x="14288" y="171450"/>
                </a:lnTo>
                <a:close/>
                <a:moveTo>
                  <a:pt x="35719" y="57150"/>
                </a:moveTo>
                <a:lnTo>
                  <a:pt x="419100" y="57150"/>
                </a:lnTo>
                <a:lnTo>
                  <a:pt x="419100" y="0"/>
                </a:lnTo>
                <a:lnTo>
                  <a:pt x="533400" y="114300"/>
                </a:lnTo>
                <a:lnTo>
                  <a:pt x="419100" y="228600"/>
                </a:lnTo>
                <a:lnTo>
                  <a:pt x="419100" y="171450"/>
                </a:lnTo>
                <a:lnTo>
                  <a:pt x="35719" y="171450"/>
                </a:lnTo>
                <a:close/>
              </a:path>
            </a:pathLst>
          </a:custGeom>
          <a:solidFill>
            <a:srgbClr val="3a54a5"/>
          </a:solidFill>
          <a:ln w="25560">
            <a:solidFill>
              <a:srgbClr val="283b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urved Up Arrow 45"/>
          <p:cNvSpPr/>
          <p:nvPr/>
        </p:nvSpPr>
        <p:spPr>
          <a:xfrm>
            <a:off x="5029200" y="5486400"/>
            <a:ext cx="2057400" cy="380880"/>
          </a:xfrm>
          <a:custGeom>
            <a:avLst/>
            <a:gdLst>
              <a:gd name="textAreaLeft" fmla="*/ 478440 w 2057400"/>
              <a:gd name="textAreaRight" fmla="*/ 1531080 w 20574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50" hR="21600" stAng="10800000" swAng="-5400000"/>
                <a:lnTo>
                  <a:pt x="11050" y="21600"/>
                </a:lnTo>
                <a:arcTo wR="10050" hR="21600" stAng="5400000" swAng="-3658355"/>
                <a:lnTo>
                  <a:pt x="21281" y="5400"/>
                </a:lnTo>
                <a:lnTo>
                  <a:pt x="20600" y="0"/>
                </a:lnTo>
                <a:lnTo>
                  <a:pt x="19281" y="5400"/>
                </a:lnTo>
                <a:lnTo>
                  <a:pt x="19781" y="5400"/>
                </a:lnTo>
                <a:arcTo wR="10050" hR="21600" stAng="1741645" swAng="3578693"/>
                <a:lnTo>
                  <a:pt x="10550" y="21573"/>
                </a:lnTo>
                <a:arcTo wR="10050" hR="21600" stAng="5479662" swAng="5320338"/>
                <a:close/>
              </a:path>
              <a:path fill="darkenLess" w="21600" h="21600">
                <a:moveTo>
                  <a:pt x="0" y="0"/>
                </a:moveTo>
                <a:arcTo wR="10050" hR="21600" stAng="10800000" swAng="-5400000"/>
                <a:lnTo>
                  <a:pt x="11050" y="21600"/>
                </a:lnTo>
                <a:arcTo wR="10050" hR="21600" stAng="5400000" swAng="79662"/>
                <a:lnTo>
                  <a:pt x="10550" y="21573"/>
                </a:lnTo>
                <a:arcTo wR="10050" hR="21600" stAng="5479662" swAng="5320338"/>
                <a:close/>
              </a:path>
            </a:pathLst>
          </a:custGeom>
          <a:solidFill>
            <a:srgbClr val="3a54a5"/>
          </a:solidFill>
          <a:ln w="25560">
            <a:solidFill>
              <a:srgbClr val="283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urved Up Arrow 46"/>
          <p:cNvSpPr/>
          <p:nvPr/>
        </p:nvSpPr>
        <p:spPr>
          <a:xfrm>
            <a:off x="5029200" y="5486400"/>
            <a:ext cx="3505320" cy="731880"/>
          </a:xfrm>
          <a:custGeom>
            <a:avLst/>
            <a:gdLst>
              <a:gd name="textAreaLeft" fmla="*/ 807480 w 3505320"/>
              <a:gd name="textAreaRight" fmla="*/ 2606040 w 3505320"/>
              <a:gd name="textAreaTop" fmla="*/ 97920 h 731880"/>
              <a:gd name="textAreaBottom" fmla="*/ 63396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55" hR="21600" stAng="10800000" swAng="-5400000"/>
                <a:lnTo>
                  <a:pt x="11082" y="21600"/>
                </a:lnTo>
                <a:arcTo wR="9955" hR="21600" stAng="5400000" swAng="-3644393"/>
                <a:lnTo>
                  <a:pt x="21284" y="5400"/>
                </a:lnTo>
                <a:lnTo>
                  <a:pt x="20473" y="0"/>
                </a:lnTo>
                <a:lnTo>
                  <a:pt x="19029" y="5400"/>
                </a:lnTo>
                <a:lnTo>
                  <a:pt x="19593" y="5400"/>
                </a:lnTo>
                <a:arcTo wR="9955" hR="21600" stAng="1755607" swAng="3554586"/>
                <a:lnTo>
                  <a:pt x="10518" y="21565"/>
                </a:lnTo>
                <a:arcTo wR="9955" hR="21600" stAng="5489807" swAng="5310193"/>
                <a:close/>
              </a:path>
              <a:path fill="darkenLess" w="21600" h="21600">
                <a:moveTo>
                  <a:pt x="0" y="0"/>
                </a:moveTo>
                <a:arcTo wR="9955" hR="21600" stAng="10800000" swAng="-5400000"/>
                <a:lnTo>
                  <a:pt x="11082" y="21600"/>
                </a:lnTo>
                <a:arcTo wR="9955" hR="21600" stAng="5400000" swAng="89807"/>
                <a:lnTo>
                  <a:pt x="10518" y="21565"/>
                </a:lnTo>
                <a:arcTo wR="9955" hR="21600" stAng="5489807" swAng="5310193"/>
                <a:close/>
              </a:path>
            </a:pathLst>
          </a:custGeom>
          <a:solidFill>
            <a:srgbClr val="3a54a5"/>
          </a:solidFill>
          <a:ln w="25560">
            <a:solidFill>
              <a:srgbClr val="283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urved Up Arrow 45"/>
          <p:cNvSpPr/>
          <p:nvPr/>
        </p:nvSpPr>
        <p:spPr>
          <a:xfrm>
            <a:off x="3352680" y="5486400"/>
            <a:ext cx="1371600" cy="304920"/>
          </a:xfrm>
          <a:custGeom>
            <a:avLst/>
            <a:gdLst>
              <a:gd name="textAreaLeft" fmla="*/ 314280 w 1371600"/>
              <a:gd name="textAreaRight" fmla="*/ 101916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00" hR="21600" stAng="10800000" swAng="-5400000"/>
                <a:lnTo>
                  <a:pt x="11100" y="21600"/>
                </a:lnTo>
                <a:arcTo wR="9900" hR="21600" stAng="5400000" swAng="-3636334"/>
                <a:lnTo>
                  <a:pt x="21286" y="5400"/>
                </a:lnTo>
                <a:lnTo>
                  <a:pt x="20400" y="0"/>
                </a:lnTo>
                <a:lnTo>
                  <a:pt x="18886" y="5400"/>
                </a:lnTo>
                <a:lnTo>
                  <a:pt x="19486" y="5400"/>
                </a:lnTo>
                <a:arcTo wR="9900" hR="21600" stAng="1763666" swAng="3540690"/>
                <a:lnTo>
                  <a:pt x="10500" y="21560"/>
                </a:lnTo>
                <a:arcTo wR="9900" hR="21600" stAng="5495644" swAng="5304356"/>
                <a:close/>
              </a:path>
              <a:path fill="darkenLess" w="21600" h="21600">
                <a:moveTo>
                  <a:pt x="0" y="0"/>
                </a:moveTo>
                <a:arcTo wR="9900" hR="21600" stAng="10800000" swAng="-5400000"/>
                <a:lnTo>
                  <a:pt x="11100" y="21600"/>
                </a:lnTo>
                <a:arcTo wR="9900" hR="21600" stAng="5400000" swAng="95644"/>
                <a:lnTo>
                  <a:pt x="10500" y="21560"/>
                </a:lnTo>
                <a:arcTo wR="9900" hR="21600" stAng="5495644" swAng="5304356"/>
                <a:close/>
              </a:path>
            </a:pathLst>
          </a:custGeom>
          <a:solidFill>
            <a:srgbClr val="3a54a5"/>
          </a:solidFill>
          <a:ln w="25560">
            <a:solidFill>
              <a:srgbClr val="283b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Curved Up Arrow 45"/>
          <p:cNvSpPr/>
          <p:nvPr/>
        </p:nvSpPr>
        <p:spPr>
          <a:xfrm flipV="1" rot="21570600">
            <a:off x="3351240" y="4494240"/>
            <a:ext cx="1371600" cy="304920"/>
          </a:xfrm>
          <a:custGeom>
            <a:avLst/>
            <a:gdLst>
              <a:gd name="textAreaLeft" fmla="*/ 318960 w 1371600"/>
              <a:gd name="textAreaRight" fmla="*/ 1020960 w 13716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050" hR="21600" stAng="10800000" swAng="-5400000"/>
                <a:lnTo>
                  <a:pt x="11050" y="21600"/>
                </a:lnTo>
                <a:arcTo wR="10050" hR="21600" stAng="5400000" swAng="-3658355"/>
                <a:lnTo>
                  <a:pt x="21281" y="5400"/>
                </a:lnTo>
                <a:lnTo>
                  <a:pt x="20600" y="0"/>
                </a:lnTo>
                <a:lnTo>
                  <a:pt x="19281" y="5400"/>
                </a:lnTo>
                <a:lnTo>
                  <a:pt x="19781" y="5400"/>
                </a:lnTo>
                <a:arcTo wR="10050" hR="21600" stAng="1741645" swAng="3578693"/>
                <a:lnTo>
                  <a:pt x="10550" y="21573"/>
                </a:lnTo>
                <a:arcTo wR="10050" hR="21600" stAng="5479662" swAng="5320338"/>
                <a:close/>
              </a:path>
              <a:path fill="darkenLess" w="21600" h="21600">
                <a:moveTo>
                  <a:pt x="0" y="0"/>
                </a:moveTo>
                <a:arcTo wR="10050" hR="21600" stAng="10800000" swAng="-5400000"/>
                <a:lnTo>
                  <a:pt x="11050" y="21600"/>
                </a:lnTo>
                <a:arcTo wR="10050" hR="21600" stAng="5400000" swAng="79662"/>
                <a:lnTo>
                  <a:pt x="10550" y="21573"/>
                </a:lnTo>
                <a:arcTo wR="10050" hR="21600" stAng="5479662" swAng="5320338"/>
                <a:close/>
              </a:path>
            </a:pathLst>
          </a:custGeom>
          <a:solidFill>
            <a:srgbClr val="3a54a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0" y="661356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Sept. 1,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304920" y="1523880"/>
            <a:ext cx="1218960" cy="642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nivers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228600" y="4191120"/>
            <a:ext cx="1219320" cy="642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niversal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87360" y="1519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Secondary Systems Planning Team  Meeting Agenda 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youth in CICO (</a:t>
            </a:r>
            <a:r>
              <a:rPr b="0" lang="en-US" sz="2800" spc="-1" strike="noStrike">
                <a:solidFill>
                  <a:srgbClr val="9966ff"/>
                </a:solidFill>
                <a:latin typeface="Calibri"/>
              </a:rPr>
              <a:t>record on T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youth responding (record on TT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* Send </a:t>
            </a:r>
            <a:r>
              <a:rPr b="0" lang="en-US" sz="2400" spc="-1" strike="noStrike">
                <a:solidFill>
                  <a:srgbClr val="9966ff"/>
                </a:solidFill>
                <a:latin typeface="Calibri"/>
              </a:rPr>
              <a:t>Reverse Request for Assistanc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teachers of all youth not respo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new youth potentially entering intervention (share # of RFAs, Universal Screening info and/or # of youth who met the data-based decision-rule cut offs for Secondary support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for S/AIG, Group with Individual Feature &amp; Brief FBA/B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f less than 70% of youth are responding to any of the interventions, the Secondary Systems team should review the </a:t>
            </a:r>
            <a:r>
              <a:rPr b="0" i="1" lang="en-US" sz="2800" spc="-1" strike="noStrike">
                <a:solidFill>
                  <a:srgbClr val="9966ff"/>
                </a:solidFill>
                <a:latin typeface="Calibri"/>
              </a:rPr>
              <a:t>integrity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f the intervention and </a:t>
            </a:r>
            <a:r>
              <a:rPr b="0" i="1" lang="en-US" sz="2800" spc="-1" strike="noStrike">
                <a:solidFill>
                  <a:srgbClr val="9966ff"/>
                </a:solidFill>
                <a:latin typeface="Calibri"/>
              </a:rPr>
              <a:t>make adjustmen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22400" y="0"/>
            <a:ext cx="886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22400" y="0"/>
            <a:ext cx="886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TEAMING: Review Level I of Guiding Ques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pic>
        <p:nvPicPr>
          <p:cNvPr id="263" name="Picture 4" descr="MPj04383690000[1]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oordinator vs. Facilitator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617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ord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es and/or oversees the specific interventions such as CICO, S/AIG &amp; Group with Individual Featur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les include: scheduling meetings, review &amp; collect data to share during team meetings, etc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72392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ly provides intervention support services to youth/fami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les include: meeting with students for CICO, runn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using non-clinical staff for running simple secondary intervention such as CICO and S/AIG’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secondary interventions are skill based interventions that  do not need to be provided by clinician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 these interventions are used to provide addition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portunities  for students to see, practice and internalize Universal expect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ider using clinical based staff for higher level interventions such as simple/complex FBA/BIP &amp; WRAP’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143000" y="609480"/>
            <a:ext cx="567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1143000" y="314280"/>
            <a:ext cx="7772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Examples of who can run simple Secondary Interventions?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s A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room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brar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nte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community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Simple Secondary Interven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-in Check-out (covered in S1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vered tod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/Academic Instructional Group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ized C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9"/>
          <p:cNvSpPr/>
          <p:nvPr/>
        </p:nvSpPr>
        <p:spPr>
          <a:xfrm>
            <a:off x="644400" y="2819520"/>
            <a:ext cx="2098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"/>
          <p:cNvSpPr/>
          <p:nvPr/>
        </p:nvSpPr>
        <p:spPr>
          <a:xfrm>
            <a:off x="7107120" y="2666880"/>
            <a:ext cx="1652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3804480" y="5883120"/>
            <a:ext cx="251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1199160" y="227160"/>
            <a:ext cx="1919520" cy="155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"/>
          <p:cNvGrpSpPr/>
          <p:nvPr/>
        </p:nvGrpSpPr>
        <p:grpSpPr>
          <a:xfrm>
            <a:off x="2819520" y="1371600"/>
            <a:ext cx="4267080" cy="4511520"/>
            <a:chOff x="2819520" y="1371600"/>
            <a:chExt cx="4267080" cy="4511520"/>
          </a:xfrm>
        </p:grpSpPr>
        <p:sp>
          <p:nvSpPr>
            <p:cNvPr id="280" name="Oval 2"/>
            <p:cNvSpPr/>
            <p:nvPr/>
          </p:nvSpPr>
          <p:spPr>
            <a:xfrm>
              <a:off x="3733920" y="3292560"/>
              <a:ext cx="2362320" cy="2209680"/>
            </a:xfrm>
            <a:prstGeom prst="ellipse">
              <a:avLst/>
            </a:prstGeom>
            <a:noFill/>
            <a:ln w="63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3"/>
            <p:cNvSpPr/>
            <p:nvPr/>
          </p:nvSpPr>
          <p:spPr>
            <a:xfrm>
              <a:off x="4419720" y="2149200"/>
              <a:ext cx="2286000" cy="2209680"/>
            </a:xfrm>
            <a:prstGeom prst="ellipse">
              <a:avLst/>
            </a:prstGeom>
            <a:noFill/>
            <a:ln w="63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4"/>
            <p:cNvSpPr/>
            <p:nvPr/>
          </p:nvSpPr>
          <p:spPr>
            <a:xfrm>
              <a:off x="2819520" y="1371600"/>
              <a:ext cx="4267080" cy="4511520"/>
            </a:xfrm>
            <a:prstGeom prst="ellipse">
              <a:avLst/>
            </a:prstGeom>
            <a:noFill/>
            <a:ln w="63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5"/>
            <p:cNvSpPr/>
            <p:nvPr/>
          </p:nvSpPr>
          <p:spPr>
            <a:xfrm>
              <a:off x="3124080" y="2149200"/>
              <a:ext cx="2209680" cy="2209680"/>
            </a:xfrm>
            <a:prstGeom prst="ellipse">
              <a:avLst/>
            </a:prstGeom>
            <a:noFill/>
            <a:ln w="633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6"/>
            <p:cNvSpPr/>
            <p:nvPr/>
          </p:nvSpPr>
          <p:spPr>
            <a:xfrm rot="18340800">
              <a:off x="3069720" y="2887920"/>
              <a:ext cx="163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7"/>
            <p:cNvSpPr/>
            <p:nvPr/>
          </p:nvSpPr>
          <p:spPr>
            <a:xfrm>
              <a:off x="3953520" y="4594320"/>
              <a:ext cx="192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ACTI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 rot="2905200">
              <a:off x="5370840" y="282132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3"/>
            <p:cNvSpPr/>
            <p:nvPr/>
          </p:nvSpPr>
          <p:spPr>
            <a:xfrm>
              <a:off x="3924360" y="1600200"/>
              <a:ext cx="194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CO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14"/>
          <p:cNvSpPr/>
          <p:nvPr/>
        </p:nvSpPr>
        <p:spPr>
          <a:xfrm>
            <a:off x="3263760" y="228600"/>
            <a:ext cx="33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Competence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 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8044200" y="0"/>
            <a:ext cx="872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٭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609480" y="4838760"/>
            <a:ext cx="2230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“What is a systems Approach in school-wide PBS?”OSEP Technical Assistance on Positive Behavioral Interventions and Supports. Accessed at 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www</a:t>
            </a:r>
            <a:r>
              <a:rPr b="0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.Pbis.org/schoolwid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Training Behavioral Expecta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143000"/>
          <a:ext cx="8458200" cy="5619600"/>
        </p:xfrm>
        <a:graphic>
          <a:graphicData uri="http://schemas.openxmlformats.org/drawingml/2006/table">
            <a:tbl>
              <a:tblPr/>
              <a:tblGrid>
                <a:gridCol w="2438280"/>
                <a:gridCol w="6019920"/>
              </a:tblGrid>
              <a:tr h="609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EXPEC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TRAINING S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E RESPON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ke yourself </a:t>
                      </a: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comfortable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amp; take care of your n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dress question/activity in group time </a:t>
                      </a: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befor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cussing “other” top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Ask ques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E RESPECT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urn </a:t>
                      </a: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cell phone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beepers, and pagers “off” or to “vibrate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Contribute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here pos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E PREPA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Follow up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n tasks for next training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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ake (and Pass) notes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(use Action Pla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9966ff"/>
                          </a:solidFill>
                          <a:latin typeface="Calibri"/>
                          <a:ea typeface="Times New Roman"/>
                        </a:rPr>
                        <a:t>throughout 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onsider Use of Daily Progress Report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9480" y="16459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es transference and generalization of ski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youth using new skills in actual settings (not just while in interven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pting of replacement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inforcement of replacement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keholder feedback and buy-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onsider How You Will In-service Staff  re: Secondary Interventions?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38080" y="202716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ill you explain/model the skills that are outlined for each interven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teachers need to know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a student gets into the intervention (Decision ru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long a student will participate  (Decision ru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ransference of the skill/s will be measu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to use Daily Progress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ir role in teaching, pre-correcting, shaping and reinforcing noted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 questions/conce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13"/>
          <p:cNvSpPr/>
          <p:nvPr/>
        </p:nvSpPr>
        <p:spPr>
          <a:xfrm>
            <a:off x="2133720" y="1143000"/>
            <a:ext cx="4800600" cy="530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ICO Card  (PALS Point Sheet)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133720" y="2133720"/>
          <a:ext cx="4800600" cy="3857400"/>
        </p:xfrm>
        <a:graphic>
          <a:graphicData uri="http://schemas.openxmlformats.org/drawingml/2006/table">
            <a:tbl>
              <a:tblPr/>
              <a:tblGrid>
                <a:gridCol w="1039680"/>
                <a:gridCol w="939960"/>
                <a:gridCol w="942840"/>
                <a:gridCol w="939960"/>
                <a:gridCol w="938160"/>
              </a:tblGrid>
              <a:tr h="99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= Great Jo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= Did O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= Tough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per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 Othe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rn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EC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roo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gu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hematic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al Studi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e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lorato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n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  1      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TextBox 7"/>
          <p:cNvSpPr/>
          <p:nvPr/>
        </p:nvSpPr>
        <p:spPr>
          <a:xfrm>
            <a:off x="2438280" y="5969160"/>
            <a:ext cx="4114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ily Goal: ­­­_______/56                             Daily Score: ________/56   Comments: State briefly any achievements that demonstrate progres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ent Signature: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_________________________________________________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0" descr="BW-bulldog"/>
          <p:cNvPicPr/>
          <p:nvPr/>
        </p:nvPicPr>
        <p:blipFill>
          <a:blip r:embed="rId1"/>
          <a:stretch/>
        </p:blipFill>
        <p:spPr>
          <a:xfrm>
            <a:off x="2362320" y="1447920"/>
            <a:ext cx="806400" cy="6350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1"/>
          <p:cNvSpPr/>
          <p:nvPr/>
        </p:nvSpPr>
        <p:spPr>
          <a:xfrm>
            <a:off x="3276720" y="1447920"/>
            <a:ext cx="3276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: _________________________________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:­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meroom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cher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: _____________________________________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1" descr="HPIM2446.JPG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Guiding Questions Example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621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How are students identified as in need of Simple Tier 2 Interventions (S/AIG, individualized CICO &amp; Mentoring)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 u="sng">
                <a:solidFill>
                  <a:srgbClr val="009999"/>
                </a:solidFill>
                <a:uFillTx/>
                <a:latin typeface="Calibri"/>
              </a:rPr>
              <a:t>Student/s receive less than 80% on DPR over 4 wee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What are the data sources used to identify thi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-based decision rules for identific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Data source #1: __</a:t>
            </a:r>
            <a:r>
              <a:rPr b="0" i="1" lang="en-US" sz="2000" spc="-1" strike="noStrike" u="sng">
                <a:solidFill>
                  <a:srgbClr val="009999"/>
                </a:solidFill>
                <a:uFillTx/>
                <a:latin typeface="Calibri"/>
              </a:rPr>
              <a:t>Daily Progress Repor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le for Inclusion in Intervention: ____</a:t>
            </a:r>
            <a:r>
              <a:rPr b="0" i="1" lang="en-US" sz="2000" spc="-1" strike="noStrike" u="sng">
                <a:solidFill>
                  <a:srgbClr val="009999"/>
                </a:solidFill>
                <a:uFillTx/>
                <a:latin typeface="Calibri"/>
              </a:rPr>
              <a:t>Less than 80%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fram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__</a:t>
            </a:r>
            <a:r>
              <a:rPr b="0" i="1" lang="en-US" sz="2000" spc="-1" strike="noStrike" u="sng">
                <a:solidFill>
                  <a:srgbClr val="009999"/>
                </a:solidFill>
                <a:uFillTx/>
                <a:latin typeface="Calibri"/>
              </a:rPr>
              <a:t>After 4 weeks of interven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cher Request for Assistance enters youth (circle one):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  </a:t>
            </a:r>
            <a:r>
              <a:rPr b="1" i="1" lang="en-US" sz="2000" spc="-1" strike="noStrike" u="sng">
                <a:solidFill>
                  <a:srgbClr val="009999"/>
                </a:solidFill>
                <a:uFillTx/>
                <a:latin typeface="Calibri"/>
              </a:rPr>
              <a:t>Yes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c00b3"/>
                </a:solidFill>
                <a:latin typeface="Calibri"/>
              </a:rPr>
              <a:t>This would be the Reverse Request for Assi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Break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2" descr="j0433182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heck on Assumption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094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already ha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least one type of ‘group’ being offered in your schoo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teachers sometimes ‘inquire’ about the purpose/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go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format of these group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. “What do you DO with him in group? He said he played Connect Four today!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d like to be able to give teachers concrete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n student progre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really just want to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impro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our current group support ‘system’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Social and Academic Instructional Group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Social/Academic Instructional Group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440" y="1569960"/>
            <a:ext cx="84582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typ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kills-build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roup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Pro-soci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Problem-solving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Academic Behavior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st if involves use of Daily Progress R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often the skill groups facilitated by Social Workers, Counselors &amp; Psycholog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ever, can consider other providers : Teacher Assistants, Behavior Interventionists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Social/Academic Instructional Group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on into groups should be based on youths’ </a:t>
            </a:r>
            <a:r>
              <a:rPr b="0" lang="en-US" sz="2400" spc="-1" strike="noStrike">
                <a:solidFill>
                  <a:srgbClr val="9966ff"/>
                </a:solidFill>
                <a:latin typeface="Calibri"/>
              </a:rPr>
              <a:t>reaction to lif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mstance not existence of life circumstances (ex. fighting with peers, not family divor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taught are </a:t>
            </a:r>
            <a:r>
              <a:rPr b="0" lang="en-US" sz="2400" spc="-1" strike="noStrike">
                <a:solidFill>
                  <a:srgbClr val="9966ff"/>
                </a:solidFill>
                <a:latin typeface="Calibri"/>
              </a:rPr>
              <a:t>comm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cross youth in same group (ex. use your wo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should measure if skills are being </a:t>
            </a:r>
            <a:r>
              <a:rPr b="0" lang="en-US" sz="2400" spc="-1" strike="noStrike">
                <a:solidFill>
                  <a:srgbClr val="9966ff"/>
                </a:solidFill>
                <a:latin typeface="Calibri"/>
              </a:rPr>
              <a:t>U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natural settings, not in counseling sessions (transference of skills to classroom, café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ff"/>
                </a:solidFill>
                <a:latin typeface="Calibri"/>
              </a:rPr>
              <a:t>Stakehold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teachers, family etc.) should have input into success of intervention (ex. Daily Progress Repor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PBIS Supports the Illinois Professional Teaching Standard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762120" y="1980720"/>
            <a:ext cx="4038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 Knowled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Development and Learn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vers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nning for Instruc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arning Environ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ctional Delive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f4d38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f4d38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f4d38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f4d38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buClr>
                <a:srgbClr val="f4d387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f4d387"/>
              </a:buClr>
              <a:buFont typeface="Calibri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76920" y="1980720"/>
            <a:ext cx="4038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9120" indent="-519120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c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aborative Relationship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lection and Professional Grow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fessional Condu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f4d387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f4d387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buClr>
                <a:srgbClr val="f4d387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spcBef>
                <a:spcPts val="601"/>
              </a:spcBef>
              <a:buClr>
                <a:srgbClr val="f4d387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9120" indent="-519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62120" y="57913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isbe.net/profprep/PDFs/ipts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hoosing or Designing </a:t>
            </a:r>
            <a:br>
              <a:rPr sz="4000"/>
            </a:b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 Group Interven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0880" y="16761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&amp;  modify lessons from pre-packaged material based on the skill needed for th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/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lready created universal behavior lesson plans or create lesson plans (Cool Tools) to directly teach replacement behavi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SAIG Template Consideration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/Type of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-social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-solving skil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ademic Behavior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ll set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purpose of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skills that need to be tau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ally appropriate Behavior Lesson Plans/Curriculum that addresses skill 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55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reate Your Own Lesson Plans:</a:t>
            </a:r>
            <a:br>
              <a:rPr sz="4000"/>
            </a:b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Teaching Behavioral Expecta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440" y="18288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St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havioral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Specif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bservable student  behaviors (ru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propriate student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Students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practi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propriate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Reinfor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ppropriate behavi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Steps of a Behavioral Lesson Plan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Expla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expectations &amp; why 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eck for student understanding/buy-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Model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eck for student understanding/buy-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) Model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non-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eck for student understanding/buy-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)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Mode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)  Students </a:t>
            </a:r>
            <a:r>
              <a:rPr b="0" lang="en-US" sz="3200" spc="-1" strike="noStrike">
                <a:solidFill>
                  <a:srgbClr val="9966ff"/>
                </a:solidFill>
                <a:latin typeface="Calibri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07800" y="456840"/>
            <a:ext cx="7326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Examples of  Packaged Instructional Group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47920" y="1523880"/>
            <a:ext cx="6705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Step (Grades PreK-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nking, Feeling, Behaving (Grades 1-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ugh Kids Social Skills (Grades 3-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lker Social Skills Curriculum (Grades 6-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treaming  (Grades PreK-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 &amp; Think Social Skills (Grades PreK-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ssport (Grades 1-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Can problem Solve  (Grades PreK-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gression Replacement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685800" y="5772240"/>
            <a:ext cx="8001000" cy="322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4d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l of above examples could be used to develop universal behavior lesson plan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18960" y="154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 </a:t>
            </a: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3 Keys to Successful S/AIG’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62120" y="1467000"/>
            <a:ext cx="8020080" cy="50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ave a Roadmap/Templ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kills that are taught need to be pinpointed before choosing “curriculum” and are clear enough that teachers can pre-correct, shape and reinforce for generalization in classro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e. “Working on expressing feelings” equates to “Using ‘I messages’” on DPR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y attention if you are choosing to use pieces of a packaged curriculum rather than your already created universal behavior lesson pla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300"/>
              </a:spcBef>
              <a:buClr>
                <a:srgbClr val="f4d387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erentiate between stand-alone curriculum and curriculum made to have lessons build upon one an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e. Stand alone curriculum  can be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kills Stre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econd St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e. Curriculum that builds upon previous lessons – use with ca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51"/>
              </a:spcBef>
              <a:buClr>
                <a:srgbClr val="f4d38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300"/>
              </a:spcBef>
              <a:buClr>
                <a:srgbClr val="f4d38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.    Build S/AIGs on top of a strong universal curricul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4" descr="MC900433903[1]"/>
          <p:cNvPicPr/>
          <p:nvPr/>
        </p:nvPicPr>
        <p:blipFill>
          <a:blip r:embed="rId1"/>
          <a:stretch/>
        </p:blipFill>
        <p:spPr>
          <a:xfrm>
            <a:off x="7924680" y="457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Procedural Consideration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s, if necess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rpose of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p Norms – ie. expectations of group, aligned to school-wide expec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riculum” with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al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5410080" y="586728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y &amp; Corey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Academic Behavior Skill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6176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kill Streaming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isten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king for Hel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aying Thank Yo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Bringing Materials to Clas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ollowing Instru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ting Assignmen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ntributing to Discuss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ffering Help to an Adul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king a Ques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gnoring Distra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aking Correc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ciding on Something to D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etting a Goal</a:t>
            </a:r>
            <a:br>
              <a:rPr sz="1800"/>
            </a:b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3430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1900" spc="-1" strike="noStrike">
                <a:solidFill>
                  <a:srgbClr val="000000"/>
                </a:solidFill>
                <a:latin typeface="Calibri"/>
              </a:rPr>
              <a:t>Getting Organized Without Losing I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omework Check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fter School Schedu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9 Great Reasons to Use a Student Pl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Pro-Social Skills - Friendship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617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kill Strea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ing Yoursel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ginning a Convers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ing a Convers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oining 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ying a Ga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king a Fav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fering Help to a Classm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iving a Compli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epting a Compli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ggesting an Activ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r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ologizing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72392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trong Kids (Grades 3-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out My Feeling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ys of Showing Feel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Problem-Solving Skill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61760" y="1599840"/>
            <a:ext cx="3886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Skill Strea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nowing Your Feeling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pressing Your Feeling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cognizing Another's Feeling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howing Understanding of Another's Feeling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pressing Concern for Anoth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aling with Your Ang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aling with Another's Ang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pressing Affectio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aling with Fea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warding Yourself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sing Self-Control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sking Permissio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sponding to Teasing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voiding Troubl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aying Out of Fight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oblem Solving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ccepting Consequences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7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aling with an Accusation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1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egotiating</a:t>
            </a:r>
            <a:br>
              <a:rPr sz="1600"/>
            </a:b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72392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The Peace Curricul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Positive Self-Talk to Control An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mework #3 Anger Control: Consequences for Your 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eping Out of Figh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S200 Objective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523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view Tier 2/Secondary system designed in S100i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 Learn how to use data for decision making and on-going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gress monitoring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.  Identify Students for Tier 2/Secondary interventions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.  Review critical features and processes of Check-in  Check-out, Social/Academic  Instructional Groups and Mentoring (Check-N-Connect)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ff"/>
                </a:solidFill>
                <a:latin typeface="Calibri"/>
              </a:rPr>
              <a:t>Action Pla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Design the actual interventions for your school’s Tier 2/Secondary continuum (specifically Social/Academic Instructional Groups and Mentoring) 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-961920" y="-13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-961920" y="-93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1295280" y="205200"/>
            <a:ext cx="762012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xample Daily Progress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Times New Roman"/>
              </a:rPr>
              <a:t>NAME:______________________  DATE:__________________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Teachers please indicate YES (2), SO-SO (1), or NO (0) regarding the student’s achievement to the following goal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685800" y="1442880"/>
          <a:ext cx="8077320" cy="4577040"/>
        </p:xfrm>
        <a:graphic>
          <a:graphicData uri="http://schemas.openxmlformats.org/drawingml/2006/table">
            <a:tbl>
              <a:tblPr/>
              <a:tblGrid>
                <a:gridCol w="1833480"/>
                <a:gridCol w="1560600"/>
                <a:gridCol w="1560600"/>
                <a:gridCol w="1558800"/>
                <a:gridCol w="1563840"/>
              </a:tblGrid>
              <a:tr h="538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PECT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1 st blo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</a:t>
                      </a:r>
                      <a:r>
                        <a:rPr b="1" lang="en-US" sz="9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d blo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 rd blo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 th blo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90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 Sa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Use your wor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Use deep breath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1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 Respectf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Keep arm’s 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Use #2 voice level when up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 Respon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Ask for brea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66ff"/>
                          </a:solidFill>
                          <a:latin typeface="Times New Roman"/>
                          <a:ea typeface="Times New Roman"/>
                        </a:rPr>
                        <a:t>Self-monitor with DP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        1        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otal Poi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acher Initial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Rectangle 52"/>
          <p:cNvSpPr/>
          <p:nvPr/>
        </p:nvSpPr>
        <p:spPr>
          <a:xfrm>
            <a:off x="152280" y="5949000"/>
            <a:ext cx="861084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dapted from Grant Middle School STAR CL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3"/>
          <p:cNvSpPr/>
          <p:nvPr/>
        </p:nvSpPr>
        <p:spPr>
          <a:xfrm>
            <a:off x="-963000" y="7968240"/>
            <a:ext cx="588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Adapted from </a:t>
            </a:r>
            <a:r>
              <a:rPr b="0" i="1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Responding to Problem Behavior in Schools: The Behavior Education Program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 by Crone, Horner, and Hawk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TEAMING: Review Level II of Guiding Question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pic>
        <p:nvPicPr>
          <p:cNvPr id="349" name="Picture 4" descr="MPj04383690000[1]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" descr="j0429871"/>
          <p:cNvPicPr/>
          <p:nvPr/>
        </p:nvPicPr>
        <p:blipFill>
          <a:blip r:embed="rId1"/>
          <a:stretch/>
        </p:blipFill>
        <p:spPr>
          <a:xfrm>
            <a:off x="2286000" y="1905120"/>
            <a:ext cx="4038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heck-in Check-out</a:t>
            </a:r>
            <a:br>
              <a:rPr sz="4400"/>
            </a:b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with Individualized Feature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ICO with individual</a:t>
            </a:r>
            <a:r>
              <a:rPr b="1" i="1" lang="en-US" sz="4000" spc="-1" strike="noStrike">
                <a:solidFill>
                  <a:srgbClr val="3a54a5"/>
                </a:solidFill>
                <a:latin typeface="Cambria"/>
              </a:rPr>
              <a:t>ized</a:t>
            </a:r>
            <a:r>
              <a:rPr b="1" lang="en-US" sz="4000" spc="-1" strike="noStrike">
                <a:solidFill>
                  <a:srgbClr val="3a54a5"/>
                </a:solidFill>
                <a:latin typeface="Cambria"/>
              </a:rPr>
              <a:t> </a:t>
            </a: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feature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is an intervention that adds support to generic CIC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chers choose these more individualized options on the reverse request for assistance (RRFA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achers are given the option to choose from these features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after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ICO was not enough support for a stud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ICO with individual</a:t>
            </a:r>
            <a:r>
              <a:rPr b="1" i="1" lang="en-US" sz="4400" spc="-1" strike="noStrike">
                <a:solidFill>
                  <a:srgbClr val="3a54a5"/>
                </a:solidFill>
                <a:latin typeface="Cambria"/>
              </a:rPr>
              <a:t>ized </a:t>
            </a: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feature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5760" y="91404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07680" y="1599840"/>
            <a:ext cx="43448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s are pre-determined and communicated to all stakehold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 systems team designs the options for the build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ick &amp; 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list of specified options teachers can choose from listed on  the reverse request for assist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410080" y="914040"/>
            <a:ext cx="24386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n’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79700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nging the goal line one child at a tim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nging or adding a goal for one chil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nging the goals on the Daily Progress Report for one child or a group of childr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meeting with the specialized staff and the teacher changing a student’s DP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CICO with individual</a:t>
            </a:r>
            <a:r>
              <a:rPr b="1" i="1" lang="en-US" sz="4400" spc="-1" strike="noStrike">
                <a:solidFill>
                  <a:srgbClr val="3a54a5"/>
                </a:solidFill>
                <a:latin typeface="Cambria"/>
              </a:rPr>
              <a:t>ized </a:t>
            </a: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feature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69640" y="1066320"/>
            <a:ext cx="23353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07680" y="1752120"/>
            <a:ext cx="43448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after generic CICO has been tried for a set time (for example 4-6 weeks) and the student has not met the pre-determined goal set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l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ren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s for individualizing the intervention are generic and qui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s the same DPR as used in generic C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867280" y="1112760"/>
            <a:ext cx="243864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n’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067000" y="1294920"/>
            <a:ext cx="3771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adult changing/ adding goals or D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ing or adding a goal for a group of kids (homework, grades, or a specific behavio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ing the DPR card because there are individualized 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Examples of CICO with Individual</a:t>
            </a:r>
            <a:r>
              <a:rPr b="1" i="1" lang="en-US" sz="4000" spc="-1" strike="noStrike">
                <a:solidFill>
                  <a:srgbClr val="3a54a5"/>
                </a:solidFill>
                <a:latin typeface="Cambria"/>
              </a:rPr>
              <a:t>ized </a:t>
            </a: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Feature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on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a check in time before/after lunch with secretary in off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tw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er accompanies student to check in at beginning of day and check out at end of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 thre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ck in with supportive adult prior to a difficult class peri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When would a child have </a:t>
            </a:r>
            <a:br>
              <a:rPr sz="4000"/>
            </a:b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goals that are specific to</a:t>
            </a:r>
            <a:br>
              <a:rPr sz="4000"/>
            </a:b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 him/her?</a:t>
            </a:r>
            <a:br>
              <a:rPr sz="4000"/>
            </a:b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3808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n intervention that is designed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Functional Behavioral Assessment is completed and created with the problem solving team as part of a Behavior Intervention Pl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ntervention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fic to the individual chi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1098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217160" y="10364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07680" y="2026800"/>
            <a:ext cx="43448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t in place after two, tier 2 interventions have been unsuccessful and the problem solving team has conducted an FBA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fic to the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PR reflects the individualized goals determined in B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48160" y="1036440"/>
            <a:ext cx="2438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it isn’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067000" y="1828800"/>
            <a:ext cx="377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adult changing/adding goals or D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ing or adding a goal for a group of kids (homework, grades or a specific behavi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ne prior to participating in “generic” C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4114800" y="838080"/>
            <a:ext cx="1109520" cy="1219320"/>
          </a:xfrm>
          <a:prstGeom prst="rect">
            <a:avLst/>
          </a:prstGeom>
          <a:ln w="0">
            <a:noFill/>
          </a:ln>
        </p:spPr>
      </p:pic>
      <p:sp>
        <p:nvSpPr>
          <p:cNvPr id="374" name="TextBox 2"/>
          <p:cNvSpPr/>
          <p:nvPr/>
        </p:nvSpPr>
        <p:spPr>
          <a:xfrm>
            <a:off x="1765800" y="39600"/>
            <a:ext cx="55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4a5"/>
                </a:solidFill>
                <a:latin typeface="Cambria"/>
              </a:rPr>
              <a:t>Youth would have goals specific to him/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54a5"/>
                </a:solidFill>
                <a:latin typeface="Cambria"/>
              </a:rPr>
              <a:t>What it is and What it i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019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Agenda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66680" y="10666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:30-9: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of Secondary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:15-10:1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 Secondary Interventions: Critical Feat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15-10:30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:30-11:30             Social/Academic Instructional Grou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:30-12:15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:15-12:4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ized CI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:45-1:4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ersonal Groups &amp; Mentoring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:45-2: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00-2:30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ding Questions: Choose 1 intervention &amp; start working on 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30-2:4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Action Plan review, report out on progress &amp; next ste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:45-3:0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s/concerns/technical assist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An example of youth with goals specific to him/her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hange goal lin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 at Summerishere Middle school are expected to meet 80% on their DPR over the course of four weeks.  However, in Jaylo’s FBA/BIP meeting the team decided to lower her goal line to 70% for the next two wee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dd goals and have a child specific dp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as also determined in Jaylo’s BIP meeting they would add the goal:  walks in hallway with hands and feet to self.  The CICO coordinator will add this goal to her DPR and have them available at the morning check in st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7620120" y="685800"/>
            <a:ext cx="1109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a54a5"/>
                </a:solidFill>
                <a:latin typeface="Cambria"/>
              </a:rPr>
              <a:t>Mentoring</a:t>
            </a:r>
            <a:endParaRPr b="0" lang="en-US" sz="4600" spc="-1" strike="noStrike">
              <a:solidFill>
                <a:srgbClr val="3a54a5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Mentoring Fueled from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6176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ortance that positive relationships with extra-familial adults promotes resiliency among youth from at-risk background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hodes, 199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2" descr="C:\Users\Ami Flammini\AppData\Local\Microsoft\Windows\Temporary Internet Files\Content.IE5\OCVTRXJL\MP900448748[1].jpg"/>
          <p:cNvPicPr/>
          <p:nvPr/>
        </p:nvPicPr>
        <p:blipFill>
          <a:blip r:embed="rId1"/>
          <a:stretch/>
        </p:blipFill>
        <p:spPr>
          <a:xfrm>
            <a:off x="4724280" y="240516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5 Types of Mentoring</a:t>
            </a:r>
            <a:br>
              <a:rPr sz="4400"/>
            </a:br>
            <a:r>
              <a:rPr b="0" lang="en-US" sz="2000" spc="-1" strike="noStrike">
                <a:solidFill>
                  <a:srgbClr val="3a54a5"/>
                </a:solidFill>
                <a:latin typeface="Cambria"/>
              </a:rPr>
              <a:t>Elements of Effective Practice (appendix section iv)</a:t>
            </a:r>
            <a:endParaRPr b="0" lang="en-US" sz="2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38080" y="1951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itional One-to-One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up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m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 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en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School Based Mentoring  SBM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SBM) is most common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form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of mentorin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rowth has outpaced resear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ntoring viewed as privilege and rewar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 lengthen matches needs to happen early in school year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ne year commitment often norm in SBM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BBBS SBM and CIS SMILE study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munication with mentor and school staff, adequate access to resources and space are linked to match quality &amp; longevity.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Herrera et al., 2007; karcher 2005a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d of match is CRUCIAL st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4d387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01800" y="3045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Activities of Mentoring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40940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ships &amp; Ta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Developmental)             (Instrument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Karcher et al. 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4" descr="C:\Users\Ami Flammini\AppData\Local\Microsoft\Windows\Temporary Internet Files\Content.IE5\0736J39Y\MP900409026[1].jpg"/>
          <p:cNvPicPr/>
          <p:nvPr/>
        </p:nvPicPr>
        <p:blipFill>
          <a:blip r:embed="rId1"/>
          <a:stretch/>
        </p:blipFill>
        <p:spPr>
          <a:xfrm>
            <a:off x="5257800" y="3032280"/>
            <a:ext cx="3429000" cy="3124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C:\Users\Ami Flammini\AppData\Local\Microsoft\Windows\Temporary Internet Files\Content.IE5\FM4WMM4K\MP900400224[1].jpg"/>
          <p:cNvPicPr/>
          <p:nvPr/>
        </p:nvPicPr>
        <p:blipFill>
          <a:blip r:embed="rId2"/>
          <a:stretch/>
        </p:blipFill>
        <p:spPr>
          <a:xfrm>
            <a:off x="685800" y="3048120"/>
            <a:ext cx="3809880" cy="3200400"/>
          </a:xfrm>
          <a:prstGeom prst="rect">
            <a:avLst/>
          </a:prstGeom>
          <a:ln w="0">
            <a:noFill/>
          </a:ln>
        </p:spPr>
      </p:pic>
      <p:cxnSp>
        <p:nvCxnSpPr>
          <p:cNvPr id="390" name="Straight Arrow Connector 3"/>
          <p:cNvCxnSpPr/>
          <p:nvPr/>
        </p:nvCxnSpPr>
        <p:spPr>
          <a:xfrm flipH="1">
            <a:off x="2584080" y="2209320"/>
            <a:ext cx="534240" cy="762840"/>
          </a:xfrm>
          <a:prstGeom prst="straightConnector1">
            <a:avLst/>
          </a:prstGeom>
          <a:ln w="38160">
            <a:solidFill>
              <a:srgbClr val="9966ff"/>
            </a:solidFill>
            <a:miter/>
            <a:tailEnd len="med" type="arrow" w="med"/>
          </a:ln>
        </p:spPr>
      </p:cxnSp>
      <p:cxnSp>
        <p:nvCxnSpPr>
          <p:cNvPr id="391" name="Straight Arrow Connector 6"/>
          <p:cNvCxnSpPr/>
          <p:nvPr/>
        </p:nvCxnSpPr>
        <p:spPr>
          <a:xfrm>
            <a:off x="6095880" y="2209320"/>
            <a:ext cx="496080" cy="839160"/>
          </a:xfrm>
          <a:prstGeom prst="straightConnector1">
            <a:avLst/>
          </a:prstGeom>
          <a:ln w="38160">
            <a:solidFill>
              <a:srgbClr val="9966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87360" y="3805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Meta Analysis 55 Evaluations</a:t>
            </a:r>
            <a:br>
              <a:rPr sz="4000"/>
            </a:br>
            <a:r>
              <a:rPr b="0" lang="en-US" sz="2000" spc="-1" strike="noStrike">
                <a:solidFill>
                  <a:srgbClr val="3a54a5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(Dubois, Holloway, Valentine &amp; Cooper, 2002).</a:t>
            </a:r>
            <a:br>
              <a:rPr sz="1100"/>
            </a:br>
            <a:endParaRPr b="0" lang="en-US" sz="2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benefit of program participation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verag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 effects significantly better when best practices in 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th from backgrounds of environmental risk and disadvantage benefit the m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What Makes Mentoring Work</a:t>
            </a:r>
            <a:br>
              <a:rPr sz="4400"/>
            </a:br>
            <a:r>
              <a:rPr b="0" lang="en-US" sz="1600" spc="-1" strike="noStrike">
                <a:solidFill>
                  <a:srgbClr val="3a54a5"/>
                </a:solidFill>
                <a:latin typeface="Cambria"/>
              </a:rPr>
              <a:t>Rhodes/Research Cornder at Mentoring.org</a:t>
            </a:r>
            <a:endParaRPr b="0" lang="en-US" sz="16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ucting reasonably intensive screening of potential men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matches based on interests that both the mentor and mentee sh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ing more than 6 hours of training for men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ering post-match training and sup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Predictive of Stronger Positive Effect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85800" y="14936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dures for monitoring program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community set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zation of mentors with backgrounds in helping ro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early established expectations for frequ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going (post-match) training for men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uctured activities for mentors and you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for parent invol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3"/>
          <p:cNvSpPr/>
          <p:nvPr/>
        </p:nvSpPr>
        <p:spPr>
          <a:xfrm>
            <a:off x="2661120" y="5943600"/>
            <a:ext cx="427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vid L Dubois, Ph.D., University of Illinois Chicag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in Action, issu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Best Practices</a:t>
            </a:r>
            <a:r>
              <a:rPr b="1" lang="en-US" sz="4400" spc="-1" strike="noStrike">
                <a:solidFill>
                  <a:srgbClr val="3a54a5"/>
                </a:solidFill>
                <a:latin typeface="Cambria"/>
              </a:rPr>
              <a:t> </a:t>
            </a:r>
            <a:r>
              <a:rPr b="1" lang="en-US" sz="1400" spc="-1" strike="noStrike">
                <a:solidFill>
                  <a:srgbClr val="3a54a5"/>
                </a:solidFill>
                <a:latin typeface="Cambria"/>
              </a:rPr>
              <a:t>(Dubois, Holloway, Valentine, Cooper) 2002</a:t>
            </a:r>
            <a:endParaRPr b="0" lang="en-US" sz="1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6212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-mat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going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for men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ent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ations for frequenc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ctations for length of cont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54a5"/>
                </a:solidFill>
                <a:latin typeface="Cambria"/>
              </a:rPr>
              <a:t>Introductions and Acknowledgments</a:t>
            </a:r>
            <a:endParaRPr b="0" lang="en-US" sz="4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 your 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 of state, district, school name, roles of people here today, how would you characterize your school and/or your tea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4d38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ve been your successes with implementing a Secondary Systems Team and/or with Check-in Check-ou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74678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a54a5"/>
                </a:solidFill>
                <a:latin typeface="Cambria"/>
              </a:rPr>
              <a:t>Understanding the Evidence Supporting School-based Mentoring</a:t>
            </a:r>
            <a:br>
              <a:rPr sz="1800"/>
            </a:br>
            <a:r>
              <a:rPr b="1" lang="en-US" sz="1800" spc="-1" strike="noStrike">
                <a:solidFill>
                  <a:srgbClr val="3a54a5"/>
                </a:solidFill>
                <a:latin typeface="Cambria"/>
              </a:rPr>
              <a:t>Cautions &amp; Caveats</a:t>
            </a:r>
            <a:br>
              <a:rPr sz="1800"/>
            </a:br>
            <a:r>
              <a:rPr b="0" lang="en-US" sz="1800" spc="-1" strike="noStrike">
                <a:solidFill>
                  <a:srgbClr val="3a54a5"/>
                </a:solidFill>
                <a:latin typeface="Cambria"/>
              </a:rPr>
              <a:t>Karcher, 2010</a:t>
            </a:r>
            <a:br>
              <a:rPr sz="1800"/>
            </a:br>
            <a:endParaRPr b="0" lang="en-US" sz="18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02" name="TextBox 5"/>
          <p:cNvSpPr/>
          <p:nvPr/>
        </p:nvSpPr>
        <p:spPr>
          <a:xfrm>
            <a:off x="685800" y="2197080"/>
            <a:ext cx="79246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e-on-One mentoring minimizes deviancy train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hion, McCord &amp; Poulin, 1999;  Dodge, Dishion &amp; Lansford, 2006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sguided Men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.M. Hansen &amp; Larson, 2007;  K. Hansen &amp; Corlett, 2007;  Karcher, 2004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ortance of Best Practi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rcher, 2010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Looking for mentoring resources?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alibri"/>
                <a:hlinkClick r:id="rId1"/>
              </a:rPr>
              <a:t>www.mentoring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87360" y="274320"/>
            <a:ext cx="739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TEAMING: Review Level III of Guiding Question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pic>
        <p:nvPicPr>
          <p:cNvPr id="406" name="Picture 4" descr="MPj04383690000[1]"/>
          <p:cNvPicPr/>
          <p:nvPr/>
        </p:nvPicPr>
        <p:blipFill>
          <a:blip r:embed="rId1"/>
          <a:stretch/>
        </p:blipFill>
        <p:spPr>
          <a:xfrm>
            <a:off x="1371600" y="1676520"/>
            <a:ext cx="64008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Break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2" descr="j0433182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Consider this…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761760" y="14475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th A has received his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fice discipline referral so he begins CICO.  He is in CICO for four weeks and has not yet met the goal that all students have, 80% of points on DPR over four weeks.  The reverse request for assistance is given to Youth A’s teacher and he chooses CICO  with individualized features, more specifically he chooses to add a check-in with the office secretary between lunch and recess.  The individualized CICO continues for four weeks and youth A has not yet met the goal that all students have, 80% of points on the DPR over four weeks.  A FBA is completed and, in addition to other function-based strategies, the problem solving team decides to add a mentor through the local Boys and Girls school program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66ff"/>
                </a:solidFill>
                <a:latin typeface="Cambria"/>
              </a:rPr>
              <a:t>Activity: Time 20 minutes </a:t>
            </a:r>
            <a:br>
              <a:rPr sz="4200"/>
            </a:br>
            <a:r>
              <a:rPr b="0" lang="en-US" sz="4200" spc="-1" strike="noStrike">
                <a:solidFill>
                  <a:srgbClr val="3a54a5"/>
                </a:solidFill>
                <a:latin typeface="Cambria"/>
              </a:rPr>
              <a:t>Using the Guiding Questions</a:t>
            </a:r>
            <a:endParaRPr b="0" lang="en-US" sz="42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37720" y="202716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oose one type of intervention to create or impro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ew &amp; answer questions to find strengths and need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tion plan next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705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Report Out  </a:t>
            </a:r>
            <a:br>
              <a:rPr sz="4400"/>
            </a:b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Progress &amp; Next Steps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pic>
        <p:nvPicPr>
          <p:cNvPr id="417" name="Picture 8" descr="MPj04392390000[1]"/>
          <p:cNvPicPr/>
          <p:nvPr/>
        </p:nvPicPr>
        <p:blipFill>
          <a:blip r:embed="rId1"/>
          <a:stretch/>
        </p:blipFill>
        <p:spPr>
          <a:xfrm>
            <a:off x="2895480" y="2209680"/>
            <a:ext cx="3657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Resources available at:</a:t>
            </a:r>
            <a:br>
              <a:rPr sz="4400"/>
            </a:br>
            <a:br>
              <a:rPr sz="4400"/>
            </a:br>
            <a:r>
              <a:rPr b="0" lang="en-US" sz="4400" spc="-1" strike="noStrike" u="sng">
                <a:solidFill>
                  <a:srgbClr val="009999"/>
                </a:solidFill>
                <a:uFillTx/>
                <a:latin typeface="Calibri"/>
              </a:rPr>
              <a:t>www.pbisillinois.org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</a:rPr>
              <a:t>Follow-up TA Support for S200i</a:t>
            </a:r>
            <a:endParaRPr b="0" lang="en-US" sz="44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295280" y="21333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-line Go-to-Meetings will be offered 3 – 6 weeks after this training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t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alibri"/>
                <a:hlinkClick r:id="rId1"/>
              </a:rPr>
              <a:t>www.pbisillinois.org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view dates and regis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4d38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urse name is STA200.1i:  Technical Assistance on Secondary Interventions (CICO, S/AIG, Mentoring/CnC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  <a:ea typeface="MS PGothic"/>
              </a:rPr>
              <a:t>  </a:t>
            </a:r>
            <a:r>
              <a:rPr b="0" lang="en-US" sz="4400" spc="-1" strike="noStrike">
                <a:solidFill>
                  <a:srgbClr val="3a54a5"/>
                </a:solidFill>
                <a:latin typeface="Cambria"/>
                <a:ea typeface="MS PGothic"/>
              </a:rPr>
              <a:t>Evaluation and CPDU Process</a:t>
            </a:r>
            <a:br>
              <a:rPr sz="4400"/>
            </a:br>
            <a:r>
              <a:rPr b="0" lang="en-US" sz="2800" spc="-1" strike="noStrike">
                <a:solidFill>
                  <a:srgbClr val="3a54a5"/>
                </a:solidFill>
                <a:latin typeface="Cambria"/>
                <a:ea typeface="MS PGothic"/>
              </a:rPr>
              <a:t>  </a:t>
            </a:r>
            <a:br>
              <a:rPr sz="2800"/>
            </a:br>
            <a:r>
              <a:rPr b="1" lang="en-US" sz="2900" spc="-1" strike="noStrike">
                <a:solidFill>
                  <a:srgbClr val="009999"/>
                </a:solidFill>
                <a:latin typeface="Cambria"/>
                <a:ea typeface="MS PGothic"/>
              </a:rPr>
              <a:t>For individuals who registered through Cvent</a:t>
            </a:r>
            <a:endParaRPr b="0" lang="en-US" sz="29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533160" y="20574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ll registrants will receive an emai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days after the training asking them to complete an evaluation using the link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By clicking on the link, registrants are to complete the evaluation by following the promp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Once the evaluation is completed, an additional email will automatically be generated thanking the registrant for their time and offering the CPDU link for the session they just atten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When registrant clicks on the CPDU link, the form shows up on the screen in PDF format and is prin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609480" y="1920960"/>
            <a:ext cx="37576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Tier 3/Tertiary Interventions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         1-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dividual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ssessment-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igh int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4529160" y="1920960"/>
            <a:ext cx="43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1-5%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Tier 3/Tertiary Inter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Individual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Assessment-ba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Intense, durable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09480" y="2975040"/>
            <a:ext cx="34768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Tier 2/Secondary Interventions      5-1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ome students (at-ri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High 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Rapid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mall group interven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ome individualiz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4529160" y="2971800"/>
            <a:ext cx="435456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5-15%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                 Tier 2/Secondary Inter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Some students (at-ri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High 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Rapid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Small group interven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Some individualiz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533520" y="4619520"/>
            <a:ext cx="327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Tier 1/Universal Interventions  80-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ll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reventive, proa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4529160" y="4619520"/>
            <a:ext cx="43545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80-90%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Narrow"/>
              </a:rPr>
              <a:t>Tier 1/Universal Interven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All settings, all stud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Preventive, proa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54a5"/>
                </a:solidFill>
                <a:latin typeface="Cambria"/>
              </a:rPr>
              <a:t>School-Wide Systems for Student Success: A Response to Intervention (RtI) Model</a:t>
            </a:r>
            <a:endParaRPr b="0" lang="en-US" sz="32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769680" y="1353960"/>
            <a:ext cx="252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cade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5652000" y="1355760"/>
            <a:ext cx="26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Behavioral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1"/>
          <p:cNvGrpSpPr/>
          <p:nvPr/>
        </p:nvGrpSpPr>
        <p:grpSpPr>
          <a:xfrm>
            <a:off x="3157560" y="1952640"/>
            <a:ext cx="2666880" cy="4447800"/>
            <a:chOff x="3157560" y="1952640"/>
            <a:chExt cx="2666880" cy="4447800"/>
          </a:xfrm>
        </p:grpSpPr>
        <p:grpSp>
          <p:nvGrpSpPr>
            <p:cNvPr id="180" name="Group 12"/>
            <p:cNvGrpSpPr/>
            <p:nvPr/>
          </p:nvGrpSpPr>
          <p:grpSpPr>
            <a:xfrm>
              <a:off x="3157560" y="1952640"/>
              <a:ext cx="2666880" cy="4447800"/>
              <a:chOff x="3157560" y="1952640"/>
              <a:chExt cx="2666880" cy="4447800"/>
            </a:xfrm>
          </p:grpSpPr>
          <p:sp>
            <p:nvSpPr>
              <p:cNvPr id="181" name="AutoShape 13"/>
              <p:cNvSpPr/>
              <p:nvPr/>
            </p:nvSpPr>
            <p:spPr>
              <a:xfrm>
                <a:off x="4367160" y="1952640"/>
                <a:ext cx="247680" cy="41112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14"/>
              <p:cNvSpPr/>
              <p:nvPr/>
            </p:nvSpPr>
            <p:spPr>
              <a:xfrm flipV="1">
                <a:off x="3157560" y="3351960"/>
                <a:ext cx="2666880" cy="3048120"/>
              </a:xfrm>
              <a:custGeom>
                <a:avLst/>
                <a:gdLst>
                  <a:gd name="textAreaLeft" fmla="*/ 679320 w 2666880"/>
                  <a:gd name="textAreaRight" fmla="*/ 1987560 w 2666880"/>
                  <a:gd name="textAreaTop" fmla="*/ 776160 h 3048120"/>
                  <a:gd name="textAreaBottom" fmla="*/ 2271960 h 3048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7405" y="21600"/>
                    </a:lnTo>
                    <a:lnTo>
                      <a:pt x="14195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utoShape 15"/>
              <p:cNvSpPr/>
              <p:nvPr/>
            </p:nvSpPr>
            <p:spPr>
              <a:xfrm flipV="1">
                <a:off x="4051440" y="2971080"/>
                <a:ext cx="880920" cy="453960"/>
              </a:xfrm>
              <a:custGeom>
                <a:avLst/>
                <a:gdLst>
                  <a:gd name="textAreaLeft" fmla="*/ 141120 w 880920"/>
                  <a:gd name="textAreaRight" fmla="*/ 739800 w 880920"/>
                  <a:gd name="textAreaTop" fmla="*/ 72720 h 453960"/>
                  <a:gd name="textAreaBottom" fmla="*/ 381240 h 45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308" y="21600"/>
                    </a:lnTo>
                    <a:lnTo>
                      <a:pt x="18292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9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AutoShape 16"/>
              <p:cNvSpPr/>
              <p:nvPr/>
            </p:nvSpPr>
            <p:spPr>
              <a:xfrm flipV="1">
                <a:off x="4184640" y="2666160"/>
                <a:ext cx="614520" cy="304920"/>
              </a:xfrm>
              <a:custGeom>
                <a:avLst/>
                <a:gdLst>
                  <a:gd name="textAreaLeft" fmla="*/ 95040 w 614520"/>
                  <a:gd name="textAreaRight" fmla="*/ 519480 w 614520"/>
                  <a:gd name="textAreaTop" fmla="*/ 47520 h 304920"/>
                  <a:gd name="textAreaBottom" fmla="*/ 25740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125" y="21600"/>
                    </a:lnTo>
                    <a:lnTo>
                      <a:pt x="18475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7"/>
              <p:cNvSpPr/>
              <p:nvPr/>
            </p:nvSpPr>
            <p:spPr>
              <a:xfrm flipV="1">
                <a:off x="4273560" y="2362320"/>
                <a:ext cx="433440" cy="304560"/>
              </a:xfrm>
              <a:custGeom>
                <a:avLst/>
                <a:gdLst>
                  <a:gd name="textAreaLeft" fmla="*/ 82440 w 433440"/>
                  <a:gd name="textAreaRight" fmla="*/ 351000 w 433440"/>
                  <a:gd name="textAreaTop" fmla="*/ 56880 h 304560"/>
                  <a:gd name="textAreaBottom" fmla="*/ 2476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4589" y="21600"/>
                    </a:lnTo>
                    <a:lnTo>
                      <a:pt x="1701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AutoShape 18"/>
            <p:cNvSpPr/>
            <p:nvPr/>
          </p:nvSpPr>
          <p:spPr>
            <a:xfrm>
              <a:off x="3157560" y="1971720"/>
              <a:ext cx="2666880" cy="44197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19"/>
          <p:cNvSpPr/>
          <p:nvPr/>
        </p:nvSpPr>
        <p:spPr>
          <a:xfrm>
            <a:off x="5867280" y="5638680"/>
            <a:ext cx="1828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entury Gothic"/>
              </a:rPr>
              <a:t>Illinois PBIS Network, Revised May 15, 2008. Adapted from “What is school-wide PBS?” OSEP Technical Assistance Center on Positive Behavioral Interventions and Supports.  Accessed at http://pbis.org/schoolwide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620120" cy="20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a54a5"/>
                </a:solidFill>
                <a:latin typeface="Cambria"/>
                <a:ea typeface="MS PGothic"/>
              </a:rPr>
              <a:t>Evaluation and CPDU Process</a:t>
            </a:r>
            <a:br>
              <a:rPr sz="4400"/>
            </a:br>
            <a:r>
              <a:rPr b="0" lang="en-US" sz="2800" spc="-1" strike="noStrike">
                <a:solidFill>
                  <a:srgbClr val="3a54a5"/>
                </a:solidFill>
                <a:latin typeface="Cambria"/>
                <a:ea typeface="MS PGothic"/>
              </a:rPr>
              <a:t> </a:t>
            </a:r>
            <a:br>
              <a:rPr sz="2800"/>
            </a:br>
            <a:r>
              <a:rPr b="1" lang="en-US" sz="3000" spc="-1" strike="noStrike">
                <a:solidFill>
                  <a:srgbClr val="009999"/>
                </a:solidFill>
                <a:latin typeface="Cambria"/>
                <a:ea typeface="MS PGothic"/>
              </a:rPr>
              <a:t>For individuals who did </a:t>
            </a:r>
            <a:r>
              <a:rPr b="1" lang="en-US" sz="3000" spc="-1" strike="noStrike" u="sng">
                <a:solidFill>
                  <a:srgbClr val="009999"/>
                </a:solidFill>
                <a:uFillTx/>
                <a:latin typeface="Cambria"/>
                <a:ea typeface="MS PGothic"/>
              </a:rPr>
              <a:t>not</a:t>
            </a:r>
            <a:r>
              <a:rPr b="1" lang="en-US" sz="3000" spc="-1" strike="noStrike">
                <a:solidFill>
                  <a:srgbClr val="009999"/>
                </a:solidFill>
                <a:latin typeface="Cambria"/>
                <a:ea typeface="MS PGothic"/>
              </a:rPr>
              <a:t> register </a:t>
            </a:r>
            <a:br>
              <a:rPr sz="3000"/>
            </a:br>
            <a:r>
              <a:rPr b="1" lang="en-US" sz="3000" spc="-1" strike="noStrike">
                <a:solidFill>
                  <a:srgbClr val="009999"/>
                </a:solidFill>
                <a:latin typeface="Cambria"/>
                <a:ea typeface="MS PGothic"/>
              </a:rPr>
              <a:t>prior to the training</a:t>
            </a:r>
            <a:endParaRPr b="0" lang="en-US" sz="3000" spc="-1" strike="noStrike">
              <a:solidFill>
                <a:srgbClr val="3a54a5"/>
              </a:solidFill>
              <a:latin typeface="Cambri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24382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he attendee contact information will be entered into Cvent and then the evaluation email will be sen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tw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days after the training asking them to complete an evaluation using the link provi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Attendee’s follow the same process for completing the evaluation and obtaining CPDUs as those individuals who registered through Cven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3200400" y="1143000"/>
            <a:ext cx="3657600" cy="525780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4572000" y="1066680"/>
            <a:ext cx="914400" cy="1371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4830840" y="1066680"/>
            <a:ext cx="406440" cy="6098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 rot="1068600">
            <a:off x="3581280" y="837720"/>
            <a:ext cx="457200" cy="56739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47960 h 5673960"/>
              <a:gd name="textAreaBottom" fmla="*/ 5526000 h 567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190520" y="2967120"/>
            <a:ext cx="20354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ary Prev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ool-/Classroom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de System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Stude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ff, &amp; Set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 rot="20415000">
            <a:off x="5562720" y="990720"/>
            <a:ext cx="304560" cy="609480"/>
          </a:xfrm>
          <a:custGeom>
            <a:avLst/>
            <a:gdLst>
              <a:gd name="textAreaLeft" fmla="*/ 0 w 304560"/>
              <a:gd name="textAreaRight" fmla="*/ 109800 w 3045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8"/>
          <p:cNvSpPr/>
          <p:nvPr/>
        </p:nvSpPr>
        <p:spPr>
          <a:xfrm rot="20355600">
            <a:off x="5384520" y="93456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5312"/>
                </a:lnTo>
                <a:cubicBezTo>
                  <a:pt x="10800" y="16212"/>
                  <a:pt x="16200" y="17112"/>
                  <a:pt x="21600" y="17112"/>
                </a:cubicBezTo>
                <a:cubicBezTo>
                  <a:pt x="16200" y="17112"/>
                  <a:pt x="10800" y="18012"/>
                  <a:pt x="10800" y="1891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999040" y="1905120"/>
            <a:ext cx="26877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ary Prev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alized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s for Students with At-Risk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019920" y="304920"/>
            <a:ext cx="26668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tiary Prev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ali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s for Students with High-Risk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388620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~80% of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627440" y="2057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~1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4616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~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1243080" y="131760"/>
            <a:ext cx="2963880" cy="916920"/>
          </a:xfrm>
          <a:prstGeom prst="rect">
            <a:avLst/>
          </a:prstGeom>
          <a:solidFill>
            <a:srgbClr val="ffcc99"/>
          </a:solidFill>
          <a:ln w="1908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SCHOOL-W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POSITIVE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9">
            <a:hlinkClick r:id="rId1"/>
          </p:cNvPr>
          <p:cNvSpPr/>
          <p:nvPr/>
        </p:nvSpPr>
        <p:spPr>
          <a:xfrm>
            <a:off x="774720" y="6027840"/>
            <a:ext cx="183960" cy="366480"/>
          </a:xfrm>
          <a:custGeom>
            <a:avLst/>
            <a:gdLst>
              <a:gd name="textAreaLeft" fmla="*/ 11880 w 183960"/>
              <a:gd name="textAreaRight" fmla="*/ 172080 w 183960"/>
              <a:gd name="textAreaTop" fmla="*/ 11880 h 366480"/>
              <a:gd name="textAreaBottom" fmla="*/ 354600 h 366480"/>
            </a:gdLst>
            <a:ahLst/>
            <a:rect l="textAreaLeft" t="textAreaTop" r="textAreaRight" b="textAreaBottom"/>
            <a:pathLst>
              <a:path w="21600" h="42989">
                <a:moveTo>
                  <a:pt x="0" y="0"/>
                </a:moveTo>
                <a:lnTo>
                  <a:pt x="21600" y="0"/>
                </a:lnTo>
                <a:lnTo>
                  <a:pt x="21600" y="42989"/>
                </a:lnTo>
                <a:lnTo>
                  <a:pt x="0" y="42989"/>
                </a:lnTo>
                <a:close/>
              </a:path>
              <a:path fill="lightenLess" w="21600" h="429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2989">
                <a:moveTo>
                  <a:pt x="21600" y="0"/>
                </a:moveTo>
                <a:lnTo>
                  <a:pt x="21600" y="42989"/>
                </a:lnTo>
                <a:lnTo>
                  <a:pt x="20200" y="41589"/>
                </a:lnTo>
                <a:lnTo>
                  <a:pt x="20200" y="1400"/>
                </a:lnTo>
                <a:close/>
              </a:path>
              <a:path fill="darkenLess" w="21600" h="42989">
                <a:moveTo>
                  <a:pt x="21600" y="42989"/>
                </a:moveTo>
                <a:lnTo>
                  <a:pt x="0" y="42989"/>
                </a:lnTo>
                <a:lnTo>
                  <a:pt x="1400" y="41589"/>
                </a:lnTo>
                <a:lnTo>
                  <a:pt x="20200" y="41589"/>
                </a:lnTo>
                <a:close/>
              </a:path>
              <a:path fill="lighten" w="21600" h="42989">
                <a:moveTo>
                  <a:pt x="0" y="42989"/>
                </a:moveTo>
                <a:lnTo>
                  <a:pt x="0" y="0"/>
                </a:lnTo>
                <a:lnTo>
                  <a:pt x="1400" y="1400"/>
                </a:lnTo>
                <a:lnTo>
                  <a:pt x="1400" y="41589"/>
                </a:lnTo>
                <a:close/>
              </a:path>
              <a:path fill="darken" w="21600" h="42989">
                <a:moveTo>
                  <a:pt x="3794" y="14488"/>
                </a:moveTo>
                <a:lnTo>
                  <a:pt x="17806" y="21495"/>
                </a:lnTo>
                <a:lnTo>
                  <a:pt x="3794" y="28501"/>
                </a:lnTo>
                <a:close/>
              </a:path>
            </a:pathLst>
          </a:custGeom>
          <a:solidFill>
            <a:srgbClr val="3a54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5"/>
          <p:cNvSpPr/>
          <p:nvPr/>
        </p:nvSpPr>
        <p:spPr>
          <a:xfrm flipV="1">
            <a:off x="1793880" y="2399400"/>
            <a:ext cx="5486400" cy="4228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cc00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301760" y="1333440"/>
            <a:ext cx="6470640" cy="1063080"/>
          </a:xfrm>
          <a:prstGeom prst="rect">
            <a:avLst/>
          </a:prstGeom>
          <a:solidFill>
            <a:srgbClr val="00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  <a:ea typeface="MS PGothic"/>
              </a:rPr>
              <a:t>Tier 1/Universal</a:t>
            </a:r>
            <a:r>
              <a:rPr b="0" lang="en-US" sz="2800" spc="-1" strike="noStrike">
                <a:solidFill>
                  <a:srgbClr val="010464"/>
                </a:solidFill>
                <a:latin typeface="Century Gothic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entury Gothic"/>
                <a:ea typeface="MS PGothic"/>
              </a:rPr>
              <a:t>School-Wide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entury Gothic"/>
                <a:ea typeface="MS PGothic"/>
              </a:rPr>
              <a:t>School-Wide Prevention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743200" y="6134040"/>
            <a:ext cx="167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SIMEO Tools:    </a:t>
            </a:r>
            <a:br>
              <a:rPr sz="1400"/>
            </a:br>
            <a:r>
              <a:rPr b="0" i="1" lang="en-US" sz="1200" spc="-1" strike="noStrike">
                <a:solidFill>
                  <a:srgbClr val="800000"/>
                </a:solidFill>
                <a:latin typeface="Arial"/>
                <a:ea typeface="MS PGothic"/>
              </a:rPr>
              <a:t>HSC-T, RD-T, EI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7026120" y="2781360"/>
            <a:ext cx="166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Check-in/ Check-out (CIC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6172200" y="411480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Group Intervention with Individualized Feature                 (e.g. Mentor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567760" y="5183280"/>
            <a:ext cx="346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Brief Functional Behavior Assessmen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Behavior Intervention Planning (FBA/BI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5175720" y="580392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Complex or Multiple-domain FBA/B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4876200" y="628164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Wrapa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762120" y="270504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    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ODRs,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Attendance,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Tardies, Grades,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      DIBEL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1295280" y="3848040"/>
            <a:ext cx="19051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Daily Progress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 Report (DPR)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  <a:ea typeface="MS PGothic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800000"/>
                </a:solidFill>
                <a:latin typeface="Arial"/>
                <a:ea typeface="MS PGothic"/>
              </a:rPr>
              <a:t>          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MS PGothic"/>
              </a:rPr>
              <a:t>(Behavior and </a:t>
            </a:r>
            <a:br>
              <a:rPr sz="1000"/>
            </a:b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MS PGothic"/>
              </a:rPr>
              <a:t>                   Academic Goals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1523880" y="4991040"/>
            <a:ext cx="2390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Competing Behavior       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Pathway, Functional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 Assessment Interview, </a:t>
            </a:r>
            <a:br>
              <a:rPr sz="1400"/>
            </a:b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             Scatter Plot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553080" y="349560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  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  <a:ea typeface="MS PGothic"/>
              </a:rPr>
              <a:t>Social/Academic Instructional Groups (SA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4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a54a5"/>
                </a:solidFill>
                <a:latin typeface="Cambria"/>
              </a:rPr>
              <a:t>Positive Behavior Interventions &amp; Supports:</a:t>
            </a:r>
            <a:br>
              <a:rPr sz="3100"/>
            </a:br>
            <a:r>
              <a:rPr b="0" lang="en-US" sz="3100" spc="-1" strike="noStrike">
                <a:solidFill>
                  <a:srgbClr val="3a54a5"/>
                </a:solidFill>
                <a:latin typeface="Cambria"/>
              </a:rPr>
              <a:t>A Response to Intervention (RtI) Mod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363600" y="632448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ae7e10"/>
                </a:solidFill>
                <a:latin typeface="Century Gothic"/>
                <a:ea typeface="MS PGothic"/>
              </a:rPr>
              <a:t>Illinois PBIS Network, Revised October 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ae7e10"/>
                </a:solidFill>
                <a:latin typeface="Century Gothic"/>
                <a:ea typeface="MS PGothic"/>
              </a:rPr>
              <a:t>Adapted from T. Scott, 20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6"/>
          <p:cNvSpPr/>
          <p:nvPr/>
        </p:nvSpPr>
        <p:spPr>
          <a:xfrm>
            <a:off x="3394080" y="2743200"/>
            <a:ext cx="2286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ier 2/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ar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ier 3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erti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 rot="18236400">
            <a:off x="5029920" y="344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Century Gothic"/>
                <a:ea typeface="MS PGothic"/>
              </a:rPr>
              <a:t>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8"/>
          <p:cNvSpPr/>
          <p:nvPr/>
        </p:nvSpPr>
        <p:spPr>
          <a:xfrm rot="3430200">
            <a:off x="1904040" y="345204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Century Gothic"/>
                <a:ea typeface="MS PGothic"/>
              </a:rPr>
              <a:t>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4:57:27Z</dcterms:created>
  <dc:creator>Kim Breen</dc:creator>
  <dc:description/>
  <dc:language>en-US</dc:language>
  <cp:lastModifiedBy>cewen</cp:lastModifiedBy>
  <dcterms:modified xsi:type="dcterms:W3CDTF">2012-01-24T20:55:54Z</dcterms:modified>
  <cp:revision>174</cp:revision>
  <dc:subject/>
  <dc:title>Slide 1</dc:title>
</cp:coreProperties>
</file>